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DDCE2-1F10-470B-8F98-515084433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CD2D7-7F16-4CA4-8BF1-B08833C79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B88C26-401F-4764-AC47-EEA73ED7CE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3958BF-1AD0-4FD8-8A2B-9B3B23E73A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1720E2-5626-4CE0-8AD6-46BDA203EB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A332C-630E-42BF-AD01-DEAFE680E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0E2922-E05F-4C19-A776-6E242C0C7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0A50C-9182-4975-8365-94078F01C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495832-BB2D-4D32-B268-E57141129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F3C201-76EF-49D8-84F8-69760CCDB5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0517AB-CF34-4D93-BF01-ACFB30F79D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66171C-6071-4283-A82D-3960F44D97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6C857-160F-4CCF-8003-068673DF0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BC92FC-698F-4424-837F-817F1A5332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B4E264-1C01-4451-BDCF-3A61AE9CDD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691EA0-747B-4781-A1C3-2B09F86DF3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E7AA12-FF8F-4498-85F3-19A918C26C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11755-6AF6-48AD-B6B8-F67A9E5AC1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EAAF22-417B-4818-8AA3-5CC6E11622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20E4FC-678E-45B0-9B01-D902E1A349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6BCC1E-947F-4311-B2B7-3D6BBBCB44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E6E147-3A06-435D-BD42-56CF591E8A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6D17A2-28E9-4A9B-AD75-727D8C934F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10050-B36F-4506-9C2D-D8036C7D2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EB51E7-8356-49F9-B7A0-B41DDB6342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E02DE6-E5A1-4C75-9C43-84814FC62E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CFA63F-FB1D-4B66-9BCE-CC74B0C5B3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FEDB9D-E37D-43E6-AE05-7DDC4F1F92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65908F-5CDA-4670-B5B4-5B758705D7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46E16D-6261-4CDB-B9B9-027024FE37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3D8DD4-1508-490E-8F6E-2500EEB7C9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B7C9AE-D53B-48FA-B36C-881D1B4075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A39724-6321-4F44-8882-D66DE28DD8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5C183-70D8-4B36-B8B0-7FA8D619E8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9B8D8-9CD1-4EA3-B8F5-A99B31F18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B85592-AB66-499A-A0AE-399576F5A5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3343B5-989B-44C3-B508-2EFDF2154B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799C8D-BA65-49CE-B9AC-073B788425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ED90D-3112-4D75-A486-4183BD04D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5DC1C-E7DF-4166-8153-0436EB81D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D40BE-6F04-4B99-8B1C-7F7D5B4D4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A862D-0808-4C84-A14C-38FA455CA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B443C-CA11-4B6A-89DB-B7BED2713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28E7B-A999-4786-93FC-A3167C925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47AE-5692-4D47-922C-A8CD01BD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82FA8-B775-4190-A4E5-352CD2928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B545-182D-4018-81A2-61B33DDDE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131D0-9B02-4DB9-97A5-FF8BBAF02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61B9E-EE8B-4E40-9DC7-7CE416F50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D8A84-E39C-4653-86F6-AB27114B0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6DA41-A404-4CDA-9093-390CBB775A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57EC9-1399-4B9C-B61A-AD9BE042C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C5717-CFF7-498A-9883-F5B21749E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EA0F2-16BC-4169-9578-643668E3A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AE5AB-16D5-41AC-AD4C-8A574C201D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80F8F-15DF-4218-91F9-C971EAA0B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D97B2-2293-48F0-9BF2-79EE7AAA6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C8E55-0BF4-4FDD-BA18-C75ECAC37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10BDA-FC09-4AFD-9BE8-34D92E6A5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DBFC7-1E44-4134-BB7F-AF52D8E2B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66578-78A8-4E1F-A6B2-9A052FE062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9D0981-DC1E-4EB0-A0E7-1D24FCF27F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1FD21E-C80C-4420-A2CB-CBCF13472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C96367-C4C5-42A3-BE4E-47F7547DA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CA02F-4D3E-41B8-B39C-243DA6DD8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F608E-4A9E-4222-9255-7E340D669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B3E0-44D1-4578-B075-BF8DBDE97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A7D17-D3F0-4D5E-8179-2BF226CB2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8CE84-DAA9-4E92-B3E8-1245807F5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4D2D8-653D-4AE3-9DFD-C98F221CCB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B403F-0596-40A5-88FA-A8D7E168F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F7F90-F1A8-460D-8234-68D3F3FB4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420A3-0ED3-44C1-8924-CEEABE262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DF8FE7-668F-45F7-BD8F-2E16B0119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0F530-CED9-44BF-B22C-EA417FAC2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44A380-AD35-4F1B-876C-65C1F30838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3353DF-AFAD-41D9-86C8-D993A4A8B1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36C6-D89F-4DDB-8455-6FA8F30C1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F85FD-DA6C-4889-8025-8DA79F47C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49BA51-6C94-4E15-B2B2-C380E857D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9F0A6-F188-46F3-BB00-0E518B319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ACC6C-5CCE-4908-B27E-019A81B5A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D7568-655F-41AC-B9F4-353EFB283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8237F-EDE5-49E5-9912-6A5D0F574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2BE37-3BCF-44B2-B07D-393425EAB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3D6D8-D700-4196-A848-D28D94305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E64C2-2A24-459E-80BA-223F16984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38D070-CE94-4A17-85EB-5A11D6102F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89B09-B682-4B32-ACAD-401052DD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614AE5-FEDB-49AD-9238-A3BED2CFBC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78802A-90F6-486E-BF6E-D61E21D5E5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787E6-6B3C-42E7-871F-69DAE02A8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0EF4A-BC86-42B5-9214-3A4E8304FE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EECECE-3593-4FA2-8ABF-56023F083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CE951B-0321-428F-88AC-DCA2FE159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1716F-AEC6-43D5-8AF0-777581C67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44B65-4201-4CA7-A474-56C3BD142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A96BD-94EC-4D14-B11C-906DA68EF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72168-9D56-4FC1-AC5E-92B8314AF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12AC-1125-4D01-B0FB-646DF8D43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4BF34A-ADAA-4C33-A754-DAAE6A803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DC53EB-C30D-4169-9633-4455F2F35F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34125E-2146-4938-B58E-4622F530EA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4AF91D-A3CE-40F4-88C1-8AD86089E0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4867D2-437B-47E7-8589-18F790D4E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9E402-866D-4B05-B071-3391E5992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467C62-BED2-47A3-9E87-9F6A5E41A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405B4-170A-45A9-9311-9EDB96B4C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1E3C4E-31B7-4EAB-A6F7-B445B5C53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C9730-9951-4C52-8D10-59DF4B4C03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26E3-B2F1-42DB-99DE-D3CAC670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13D10-C08D-456B-8F60-8F8F38440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69EF8-E9C2-433D-8F90-C074B81D7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210695-8C3A-452A-A65C-E7316D523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0C87E4-F157-451B-8B08-FDF124297E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AAEAC3-898C-41DC-8FDA-65AC8057D1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C5DD02-3AEC-44E6-9A9F-3848452378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6529A-A3BF-47F5-8883-209475FFD9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39E42E-0616-46FF-AC73-116BF68FC3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0C074B-1B80-4A49-BA78-5614F1B92F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42BA96-C204-4633-9C1F-012B6381DA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86772-789A-48EC-8DC9-58F34CEB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3E7CF-5FFA-40BA-A0CD-5FA2E83194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D258B-5CD1-4DC2-A58E-B5A983AC2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EFCE7-04FC-48D0-B957-459207204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B2C5A-0890-4B6E-B78C-50CA38CB9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68CC4-FA4C-44C4-B387-B24FA5DC1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9EBE6C-165A-4848-82BA-25824B88A7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F9DB6-0ED4-4A77-9D12-7597D8CCA3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7CB15C-C153-4D07-AC5A-DAAE528187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4B169-AC4A-469C-99C7-52289CF1C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5B36D-5E50-4E84-988A-CD27D3E5F2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9ABB-C08C-44AC-9AEB-91FCEEB4BE96}"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3AF1-6362-49DB-A6A3-A17DCA2720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7D78-FA40-4E78-8D63-6D0D1CEE26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B553-9CCF-4DEC-B988-BF04A6146F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6BAF-9232-4312-BF20-BF03621892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8044-7D8B-4A0F-942F-87672C82C2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A50D-C6C0-4C9D-99CB-26177611CE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5599-5046-4194-B385-CCF819BDB4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A789-05FA-45AC-815D-FB5514994C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32C9-E36A-4C60-90ED-9DDC49FEC8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7DD0-0355-443A-9223-8CD1ECF649F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7E9F-0236-4A4B-98BB-D2DD6E01D6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愿如来</a:t>
            </a:r>
            <a:endParaRPr b="0" lang="en-US" sz="4400" spc="-1" strike="noStrike">
              <a:solidFill>
                <a:srgbClr val="000000"/>
              </a:solidFill>
              <a:latin typeface="Arial"/>
            </a:endParaRPr>
          </a:p>
        </p:txBody>
      </p:sp>
      <p:sp>
        <p:nvSpPr>
          <p:cNvPr id="5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教小孩小学生一起念</a:t>
            </a:r>
            <a:r>
              <a:rPr b="0" lang="en-US" sz="3200" spc="-1" strike="noStrike">
                <a:solidFill>
                  <a:srgbClr val="000000"/>
                </a:solidFill>
                <a:latin typeface="Arial"/>
              </a:rPr>
              <a:t>“</a:t>
            </a:r>
            <a:r>
              <a:rPr b="0" lang="zh-CN" sz="3200" spc="-1" strike="noStrike">
                <a:solidFill>
                  <a:srgbClr val="000000"/>
                </a:solidFill>
                <a:latin typeface="Arial"/>
              </a:rPr>
              <a:t>南无愿如来</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原来佛菩萨在保护我们！</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8"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1"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4"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7"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0"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3"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6"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8"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2" name=""/>
          <p:cNvSpPr txBox="1"/>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5"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8"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8:24:20Z</dcterms:created>
  <dc:creator>微软用户</dc:creator>
  <dc:description/>
  <dc:language>en-US</dc:language>
  <cp:lastModifiedBy>huzheng</cp:lastModifiedBy>
  <dcterms:modified xsi:type="dcterms:W3CDTF">2025-11-28T16:56:44Z</dcterms:modified>
  <cp:revision>42</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3A0B14B0DEA5A0ECC632969B0A8160E_42</vt:lpwstr>
  </property>
  <property fmtid="{D5CDD505-2E9C-101B-9397-08002B2CF9AE}" pid="3" name="KSOProductBuildVer">
    <vt:lpwstr>2052-12.1.2.23578</vt:lpwstr>
  </property>
</Properties>
</file>