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9.jpeg" ContentType="image/jpeg"/>
  <Override PartName="/ppt/media/image11.jpeg" ContentType="image/jpeg"/>
  <Override PartName="/ppt/media/image14.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3.gif" ContentType="image/gif"/>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9986C2-63F2-44D9-9710-F878A2277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D56C9-77A4-43CA-B51A-0FDA36341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341853-22BC-42EF-B8E6-9177A99E3E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B9115C-60D4-438D-B5E3-114D72A206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4E681A-FD63-40A4-9B4B-3CAB3DBAFC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FC2021-3D9C-4C8A-AA56-45E8B8BE5F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30FA72-8173-403E-8E6C-46F924F9EB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BE5349-CE02-44F9-9D28-18FABF23EA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EB928A-99E6-40DE-A1F3-A6D752317C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E07799D-2422-4721-B0F5-5B4F34E7721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7011FA7-8AB8-4C8E-A653-7E1654F6128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5839C8F-299F-4C09-9050-A8494569992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F31D0C-8201-4562-866C-B0DB7FFF20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8F45EDC-1FED-436E-B954-BE6AF344E55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194AA83-3263-4D93-927A-C9B9B53B0EE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849F997-F322-45C4-B167-C799FCC9B0B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ACCC1C9-8E8B-45D9-83B4-DC6EA595022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BA8FB84-D15B-4A76-A515-151D7BFA9AD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94A3658-8F36-4F02-A9D9-D42BC02CF74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2A99AE6-A5C2-4320-BF11-DFFD52701A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9A948A3-B3E3-4B85-96FD-56E23F4E2A0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024EF11-CC3E-4AAA-B64C-DEB41D46DFF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2677B50-AB20-4D21-A0F7-46A91B9F1CE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47622C-7800-4F33-B5B3-F156F42F8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82B6B95-AE96-4DE4-8F6E-A90BA9AEC26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D4C055D-6C96-4852-86A9-DB92C2A4EDB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C343DB0-B885-4E62-9E1B-E90E7C73F4F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B969588-6C39-450A-A974-8AE2590B95E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4A09C46-87A4-4ECA-B5D0-7F3D09DE514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727B316-810E-49E8-8D8C-A4B640FE8B4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25F3BCA-905F-4FC1-8413-48FD51E6837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D39227B-9B4A-461A-95A0-5629900CEA2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E91BFC7-7183-48DB-A716-D40A25F401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59A668A-5D37-4D3E-831D-9A7EC01E580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DF3342-3D9F-4A93-8328-15F6AC1FE5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D0D28C5-2FFB-44B6-8554-0F7DF69D5A5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21CB81F-63D4-49CE-A3EC-F9F0870AFCF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25003D4-5601-46D6-97D1-DF067C61FA4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D44FF5-A38D-47E9-B7D4-0181CDF1C1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DEA6EC-EE8F-4D9D-8E07-754CABBD48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55BA2F-A310-4E4D-AC05-376F6FBCB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01E1B1-258A-4533-86CD-A66C56EF7B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60A4DE-E09B-495E-A5FF-2603F09617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03A7E-4F9E-4BC5-8914-EA5DCCA9FB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8E5FF-AEA1-48F7-BDFE-1B9A483DF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D9022-9AF0-4B4F-9761-60061131F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00723-887D-40FC-91DC-5649F4D93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B1D574-A034-45E5-80B5-93758060AB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B38574-B447-4DEB-8486-037EDC1900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803868-4C0B-411E-AF8A-AFAB2C61E4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BB9C6F-CAE3-45FC-89AC-C5DB429C7D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6D8BFB-F35A-487A-A690-4429115E7D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819D0A-8549-4018-8A09-F2B71E870B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4C6862-91C0-4256-A6C8-91DA68037D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A7D32E-14DA-4508-A593-5DCF8AD2D2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0E54D-E11B-4BBE-8DAB-50AA5FE01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A97AB6-E7BD-48D3-B2C9-1473ED3DFD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28C34D-FAA1-4C27-A253-0388AEBCB3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DFA1AB-8C45-4DEA-97BC-DC946CFD02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F8518B-43E8-4386-8A6C-DAA36E1D09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00F87C-CA61-4A54-A1A8-6692438D40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2822CE-7EF1-4D70-A61E-F02F4FA178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3111B2-7204-410E-A01E-CC00F63AEB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AE2021-C655-4049-9AB3-9C7A28260B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281EA4-58D7-4710-9098-83E446527F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D17655-7E33-4D75-B548-810D39CEE1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54E00-D215-4F1A-8028-431A02FA4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A3B7F5-5B1F-4382-A1E6-87CC230663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8FBFC8-8D6D-42F7-AECC-86CC3547F4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1B08D2-8F9C-4CDF-B19C-4A42A8855D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80A513-8169-44FC-9ACB-A33801B48B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C5603D-1AFF-4A13-8D5D-141A72BDD8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756CFB-FE67-40A8-B200-252D7056C2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A0F892-F1B2-4366-A59D-36B8745EFF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FB271F-F9C3-4C81-B3A4-7CD649B246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FA5D45-778B-4808-BD46-285B4AB7A4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C715A6-AB36-4728-8E40-D82102E4A4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04D06-6FE5-4DE1-A787-18156BC99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CB454E-E979-486B-824E-70C8ACAABD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3D9079-66B8-4EEC-80A7-A5EE93E4AD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5C5A78-1E93-4348-9F0D-C3DCDF5995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75F1A8-21F9-4C0D-AA58-5CE49DA50B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3A605D-3ECD-4D7B-9E6C-EBB8A7A168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0292EC-EE45-4840-BC94-D47060F0A7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F0AA92-C9E8-42A9-B0EB-66A0D648AD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3F78BA-A3A4-4DC4-8F03-753FB640F4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D029A9-2A07-4CB5-9E03-A3D9B2BA55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BD8E21-7C5E-4A98-92B6-50547AD1AF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944A6-39FD-400D-9A7A-F23FCE3B7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6FBFB7-F153-43F7-BE54-E9BD167983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C5732E-C763-4A49-B58C-5E7BEC9CD3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0C9171-5828-4201-9AF2-3B89ADB517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5BA611-BF00-46A3-9818-B4D143FB35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B06B6C-018C-4A4C-BD66-BDB002A281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1820C2-FCA8-4B20-9C9E-210EB4904E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2A703D-4BD6-40B9-85A9-949AD1BB17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701903-DCBE-4193-99C9-4E694DDDE2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349FE3-4F8E-4A66-B6DA-C0609F6938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831133-12F7-4751-A4CD-5A5BFA3986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5B632-0346-4EE8-9040-34FBF8099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286AE4-CF0D-45A8-AA17-5DD43B6ADA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4E345C7-F537-4A6D-9DFD-536A18888D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DD82C1-F9D3-4936-B2ED-14E645F7C8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EC3602-0B7E-4998-83A2-D38A11E891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258C10-D9D0-4848-AAEC-D4707738AC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CDCFF1-894E-4A74-97E6-2BA24DB1A8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E32742-9859-47C1-9B84-8BB5C4C65D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349269-9086-4FD1-95C0-83382C6956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6BE437-4B48-4773-9724-F24536FF6D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CF62E1-1FA6-437D-B137-B1372084EA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6565F-C813-4901-A0FA-52BA315C1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B3E5FC-70A4-42E4-A474-0439D97B86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7163AC-7C04-4CBF-A952-A14A147C60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46E540-34DF-4109-BAD0-48564C1EF1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B4CB3F-5C63-45AE-9108-8A5286320E7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73332B-57BB-4715-B667-BC9DFF3365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F3B6BE2-868D-47FE-AF36-C4DD391A02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B6C198-3363-4EDA-8890-715BD91525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D8CD5D-4A52-41BE-9492-1C2A5EE863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985A0C-6160-4596-B90E-35C8B6180C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2C9453-2BFD-4D63-9DA7-0603FED774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20CFD-47E8-465B-851D-E266E75C7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3E55D9-30D9-4DB8-9E4D-52C51174F9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384DAB-98ED-485F-A5BF-3717296532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45CA89-41FE-4E6A-A10E-D2E92DB15C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22411F-FBC1-4A54-81FE-18D05B555B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52AE47-1594-4029-9EF4-055FC555F1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902FC7-E7E9-4A31-B996-C747D6E62B9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AC6744E-8C97-46AF-82CB-9E3F80AE6A7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A104534-A8E4-47CF-B867-522D1FA01F5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D9F2FD-9D83-4C6E-835A-B599811D16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18134D-BC64-4A81-BE53-1FE9BF6F87F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BD0A9-CBDF-4B87-8004-21D2FCF11689}"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6F736-FA55-4E8E-BFEA-E68D8308834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CB06A-9342-49CF-926D-BA79533DB85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1DD0A-DC1E-48D4-B7BB-FAE800E3DE8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CD284-D86A-4564-961A-A7801A47678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D1191-0102-4704-97B0-802CDA4880F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CE7CA-8F33-4149-844C-F6930F14E50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9FA03-DBE3-40E9-9FDC-A107D787C90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6A097-BEF8-4695-9749-6DC5B68BD0B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293E2-7A60-456D-BE46-AF0E81DC771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01A72-0C8F-490A-BF82-84BF69A96E9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C42EC-9F05-478C-ADD9-725081CE19B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hyperlink" Target="http://fodang.huzheng.org/" TargetMode="External"/><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法常识讲座</a:t>
            </a:r>
            <a:endParaRPr b="0" lang="en-US" sz="4400" spc="-1" strike="noStrike">
              <a:solidFill>
                <a:srgbClr val="000000"/>
              </a:solidFill>
              <a:latin typeface="Arial"/>
            </a:endParaRPr>
          </a:p>
        </p:txBody>
      </p:sp>
      <p:sp>
        <p:nvSpPr>
          <p:cNvPr id="4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胡正 </a:t>
            </a:r>
            <a:r>
              <a:rPr b="0" lang="en-US" sz="3200" spc="-1" strike="noStrike">
                <a:solidFill>
                  <a:srgbClr val="000000"/>
                </a:solidFill>
                <a:latin typeface="Arial"/>
              </a:rPr>
              <a:t>2019.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六度波罗蜜</a:t>
            </a:r>
            <a:endParaRPr b="0" lang="en-US" sz="4400" spc="-1" strike="noStrike">
              <a:solidFill>
                <a:srgbClr val="000000"/>
              </a:solidFill>
              <a:latin typeface="Arial"/>
            </a:endParaRPr>
          </a:p>
        </p:txBody>
      </p:sp>
      <p:sp>
        <p:nvSpPr>
          <p:cNvPr id="47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度，菩萨修成佛的六个方法。即布施，持戒，忍辱，精进，禅定，般若。这六点是菩萨的行为准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布施分为财布施，法布施和无畏布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财布施就是布施钱财，法布施就是布施法，把道理说给别人听，无畏布施是指关心爱护他人，使他人脱离担忧和恐惧。其中法布施是最为殊胜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六度</a:t>
            </a:r>
            <a:endParaRPr b="0" lang="en-US" sz="4400" spc="-1" strike="noStrike">
              <a:solidFill>
                <a:srgbClr val="000000"/>
              </a:solidFill>
              <a:latin typeface="Arial"/>
            </a:endParaRPr>
          </a:p>
        </p:txBody>
      </p:sp>
      <p:sp>
        <p:nvSpPr>
          <p:cNvPr id="47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持戒。持戒就是遵守佛教戒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忍辱。因为邪见的人喜欢辱骂圣者，而菩萨又不应回骂，因此应当忍辱。忍辱不是记仇，否则就不是忍辱了。忍辱得相貌庄严的善果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精进。就是不懈怠。保持努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禅定。就是常见的打坐。禅定生智慧，禅定力强可以引发神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六度</a:t>
            </a:r>
            <a:endParaRPr b="0" lang="en-US" sz="4400" spc="-1" strike="noStrike">
              <a:solidFill>
                <a:srgbClr val="000000"/>
              </a:solidFill>
              <a:latin typeface="Arial"/>
            </a:endParaRPr>
          </a:p>
        </p:txBody>
      </p:sp>
      <p:sp>
        <p:nvSpPr>
          <p:cNvPr id="47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般若。即大智慧，妙智慧。因为区别于世间智慧，因此称为般若。一切诸佛皆以智慧觉，因此修般若智慧很重要。六度里最重要的就是般若，以般若为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教的实证</a:t>
            </a:r>
            <a:endParaRPr b="0" lang="en-US" sz="4400" spc="-1" strike="noStrike">
              <a:solidFill>
                <a:srgbClr val="000000"/>
              </a:solidFill>
              <a:latin typeface="Arial"/>
            </a:endParaRPr>
          </a:p>
        </p:txBody>
      </p:sp>
      <p:sp>
        <p:nvSpPr>
          <p:cNvPr id="47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认为自己是对的（不一定真的对）和知道自己是对的，佛教是后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佛教是历史上唯一真正实证的宗教。 </a:t>
            </a:r>
            <a:r>
              <a:rPr b="0" lang="en-US" sz="3200" spc="-1" strike="noStrike">
                <a:solidFill>
                  <a:srgbClr val="000000"/>
                </a:solidFill>
                <a:latin typeface="Arial"/>
              </a:rPr>
              <a:t>——</a:t>
            </a:r>
            <a:r>
              <a:rPr b="0" lang="zh-CN" sz="3200" spc="-1" strike="noStrike">
                <a:solidFill>
                  <a:srgbClr val="000000"/>
                </a:solidFill>
                <a:latin typeface="Arial"/>
              </a:rPr>
              <a:t>尼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成佛的三大条件：具备一切美德，具备一切知智（一切智慧），神通无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法难闻</a:t>
            </a:r>
            <a:endParaRPr b="0" lang="en-US" sz="4400" spc="-1" strike="noStrike">
              <a:solidFill>
                <a:srgbClr val="000000"/>
              </a:solidFill>
              <a:latin typeface="Arial"/>
            </a:endParaRPr>
          </a:p>
        </p:txBody>
      </p:sp>
      <p:sp>
        <p:nvSpPr>
          <p:cNvPr id="47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难：一、遇佛世难，二、闻正法难，三、生善心难，四、生中国（原指印度，中心之国）难，五、得人身难，六、具诸根难。</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善男子，无量众生应入涅槃，以所乏故，妨乱其心，是故不得。善男子，复有众生多喜教化，其心匆务不能得定，是故不得现在涅槃。”太苦或太入世都不闻佛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教的戒律</a:t>
            </a:r>
            <a:endParaRPr b="0" lang="en-US" sz="4400" spc="-1" strike="noStrike">
              <a:solidFill>
                <a:srgbClr val="000000"/>
              </a:solidFill>
              <a:latin typeface="Arial"/>
            </a:endParaRPr>
          </a:p>
        </p:txBody>
      </p:sp>
      <p:sp>
        <p:nvSpPr>
          <p:cNvPr id="4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戒。即不杀生，不偷窃，不邪淫，不妄语（不说谎话），不饮酒。持五戒得人身。因此想要下世继续为人就得持五戒。</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十善。不杀生、不偷盗、不邪淫、不妄语、不两舌（挑拨是非）、不恶口（骂人）、不绮语（说废话）、离贪欲、离嗔恚、离邪见。行十善生为天人，享天道之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六道皆苦</a:t>
            </a:r>
            <a:endParaRPr b="0" lang="en-US" sz="4400" spc="-1" strike="noStrike">
              <a:solidFill>
                <a:srgbClr val="000000"/>
              </a:solidFill>
              <a:latin typeface="Arial"/>
            </a:endParaRPr>
          </a:p>
        </p:txBody>
      </p:sp>
      <p:sp>
        <p:nvSpPr>
          <p:cNvPr id="48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恶道受苦。畜生道生活在恐惧之中，吃与被吃。饿鬼道长期挨饿，相互欺负。地狱道受刑罚之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人道苦乐参半。最有利于修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阿修罗道有天人之福，但好斗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天人道享福，但因仍在六道轮回之中，因此仍难免福报享尽后下世受苦，不是毕竟解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修行解脱</a:t>
            </a:r>
            <a:endParaRPr b="0" lang="en-US" sz="4400" spc="-1" strike="noStrike">
              <a:solidFill>
                <a:srgbClr val="000000"/>
              </a:solidFill>
              <a:latin typeface="Arial"/>
            </a:endParaRPr>
          </a:p>
        </p:txBody>
      </p:sp>
      <p:sp>
        <p:nvSpPr>
          <p:cNvPr id="48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声闻四果：须陀洹（初果），斯陀含（二果），阿那含（三果），阿罗汉（四果）。修成阿罗汉的人的代表：十八罗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辟支佛十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菩萨十地。等觉菩萨，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圣谛</a:t>
            </a:r>
            <a:endParaRPr b="0" lang="en-US" sz="4400" spc="-1" strike="noStrike">
              <a:solidFill>
                <a:srgbClr val="000000"/>
              </a:solidFill>
              <a:latin typeface="Arial"/>
            </a:endParaRPr>
          </a:p>
        </p:txBody>
      </p:sp>
      <p:sp>
        <p:nvSpPr>
          <p:cNvPr id="48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圣谛：苦、集、灭、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苦谛就是世间皆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集谛就是十二因缘。无明缘行，行缘识，识缘名色，名色缘六入，六入缘触，触缘受，受缘爱，爱缘取，取缘有，有缘生，生缘老死忧悲苦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灭谛就是修阿罗汉十心结灭苦得解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道谛就是八圣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阿罗汉十心结</a:t>
            </a:r>
            <a:endParaRPr b="0" lang="en-US" sz="4400" spc="-1" strike="noStrike">
              <a:solidFill>
                <a:srgbClr val="000000"/>
              </a:solidFill>
              <a:latin typeface="Arial"/>
            </a:endParaRPr>
          </a:p>
        </p:txBody>
      </p:sp>
      <p:sp>
        <p:nvSpPr>
          <p:cNvPr id="48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阿罗汉十心结：戒禁取（戒的禁止和可做可取，己所不欲勿施于人的自他相换之心。想象你是他，你这样欺负对待这个你，你会怎样想。即伦理上的哪些能做，哪些不能做。），身见（身体是我之见），（对佛法的）疑，欲界贪（分欲界贪重和贪薄），嗔（分嗔重和嗔薄），色界物质贪（分重和薄），无色界精神享受贪，掉举（掉就是没有必要的担心和不安，唉声叹气，举就是兴奋），我慢（骄慢傲慢，高高在上我傲看不起别人之心，优越心，总以为自己是高高在上的，并想维持这种状态），痴（分痴重不实事求是和痴薄不承认现实，比如小聪明就是痴薄法）。十心结皆分重和薄。</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想证阿罗汉果，先从持戒开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教基础理论</a:t>
            </a:r>
            <a:endParaRPr b="0" lang="en-US" sz="4400" spc="-1" strike="noStrike">
              <a:solidFill>
                <a:srgbClr val="000000"/>
              </a:solidFill>
              <a:latin typeface="Arial"/>
            </a:endParaRPr>
          </a:p>
        </p:txBody>
      </p:sp>
      <p:sp>
        <p:nvSpPr>
          <p:cNvPr id="45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轮回。六道轮回。</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善道：天人道，阿修罗道，人道。</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恶道：畜生道，饿鬼道，地狱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因果。因果报应。</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善有善报，恶有恶报，不是不报，时候未到，时候一到，统统都报。</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道轮回开天眼后能看到。因果报应缘觉能观察得到。</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十心结与果位</a:t>
            </a:r>
            <a:endParaRPr b="0" lang="en-US" sz="4400" spc="-1" strike="noStrike">
              <a:solidFill>
                <a:srgbClr val="000000"/>
              </a:solidFill>
              <a:latin typeface="Arial"/>
            </a:endParaRPr>
          </a:p>
        </p:txBody>
      </p:sp>
      <p:sp>
        <p:nvSpPr>
          <p:cNvPr id="49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破疑结就证法眼净（只看见干净颜色的境界）。破戒禁取，身见，疑三心结就得须陀洹果，会体验涅槃定（胸口一团清凉喜感涌动）。</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再欲界贪薄，嗔薄就证斯陀含果。</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再欲界贪无，嗔无就证阿那含果。</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后面五个心结再都破掉就证阿罗汉果！</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证了须陀洹就会注定觉悟迟早证阿罗汉果，最多再经过七世轮回，并且不会堕三恶道，不过证须陀洹果后要精进努力继续去掉其他心结以早日证得阿罗汉果！证了斯陀含果后一上（天道）一下（回人道）即可证得阿罗汉果（因此称为一来），证了阿那含果后下世会在色界天道证得阿罗汉果而入涅槃（因此称为不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辟支佛十地</a:t>
            </a:r>
            <a:endParaRPr b="0" lang="en-US" sz="4400" spc="-1" strike="noStrike">
              <a:solidFill>
                <a:srgbClr val="000000"/>
              </a:solidFill>
              <a:latin typeface="Arial"/>
            </a:endParaRPr>
          </a:p>
        </p:txBody>
      </p:sp>
      <p:sp>
        <p:nvSpPr>
          <p:cNvPr id="49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缘觉乘十地，分别为：昔行具足地、自觉甚深十二因缘地、觉了四圣谛地、甚深利智地、八圣道地、觉了法界虚空界众生界地、证寂灭地、六通地、彻秘密地、习气渐薄地（上文十地名出自</a:t>
            </a:r>
            <a:r>
              <a:rPr b="0" lang="en-US" sz="3200" spc="-1" strike="noStrike">
                <a:solidFill>
                  <a:srgbClr val="000000"/>
                </a:solidFill>
                <a:latin typeface="Arial"/>
              </a:rPr>
              <a:t>《</a:t>
            </a:r>
            <a:r>
              <a:rPr b="0" lang="zh-CN" sz="3200" spc="-1" strike="noStrike">
                <a:solidFill>
                  <a:srgbClr val="000000"/>
                </a:solidFill>
                <a:latin typeface="Arial"/>
              </a:rPr>
              <a:t>大乘同性经</a:t>
            </a:r>
            <a:r>
              <a:rPr b="0" lang="en-US"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缘觉辟支佛的样子</a:t>
            </a:r>
            <a:endParaRPr b="0" lang="en-US" sz="4400" spc="-1" strike="noStrike">
              <a:solidFill>
                <a:srgbClr val="000000"/>
              </a:solidFill>
              <a:latin typeface="Arial"/>
            </a:endParaRPr>
          </a:p>
        </p:txBody>
      </p:sp>
      <p:sp>
        <p:nvSpPr>
          <p:cNvPr id="49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5" name="图片 53251" descr="yuanjue"/>
          <p:cNvPicPr/>
          <p:nvPr/>
        </p:nvPicPr>
        <p:blipFill>
          <a:blip r:embed="rId1"/>
          <a:stretch/>
        </p:blipFill>
        <p:spPr>
          <a:xfrm>
            <a:off x="2771640" y="1628640"/>
            <a:ext cx="3778560" cy="4321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菩萨十地</a:t>
            </a:r>
            <a:endParaRPr b="0" lang="en-US" sz="4400" spc="-1" strike="noStrike">
              <a:solidFill>
                <a:srgbClr val="000000"/>
              </a:solidFill>
              <a:latin typeface="Arial"/>
            </a:endParaRPr>
          </a:p>
        </p:txBody>
      </p:sp>
      <p:sp>
        <p:nvSpPr>
          <p:cNvPr id="49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菩萨十地：欢喜地（主修布施波罗蜜多）、离垢地（主修持戒波罗蜜多）、明地（主修忍辱波罗蜜多）、焰慧地（主修精进波罗蜜多）、难胜地（主修禅定波罗蜜多）、现前地（善法现前，主修般若波罗蜜多）、深远地（目光深邃，主修方便波罗蜜多，发展谋略能力）、不动地（不为外境所动，主修愿波罗蜜多）、善慧地（主修力波罗蜜多）、法云地（主修智波罗蜜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地藏王菩萨</a:t>
            </a:r>
            <a:endParaRPr b="0" lang="en-US" sz="4400" spc="-1" strike="noStrike">
              <a:solidFill>
                <a:srgbClr val="000000"/>
              </a:solidFill>
              <a:latin typeface="Arial"/>
            </a:endParaRPr>
          </a:p>
        </p:txBody>
      </p:sp>
      <p:sp>
        <p:nvSpPr>
          <p:cNvPr id="49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0" name="图片 41987" descr="004"/>
          <p:cNvPicPr/>
          <p:nvPr/>
        </p:nvPicPr>
        <p:blipFill>
          <a:blip r:embed="rId1"/>
          <a:stretch/>
        </p:blipFill>
        <p:spPr>
          <a:xfrm>
            <a:off x="1763640" y="1628640"/>
            <a:ext cx="5832720" cy="468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0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3" name="图片 43011" descr="DiZangWangPuSa_PerfectYuangBiqibi"/>
          <p:cNvPicPr/>
          <p:nvPr/>
        </p:nvPicPr>
        <p:blipFill>
          <a:blip r:embed="rId1"/>
          <a:stretch/>
        </p:blipFill>
        <p:spPr>
          <a:xfrm>
            <a:off x="2268360" y="260280"/>
            <a:ext cx="4915080" cy="6337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有十级</a:t>
            </a:r>
            <a:endParaRPr b="0" lang="en-US" sz="4400" spc="-1" strike="noStrike">
              <a:solidFill>
                <a:srgbClr val="000000"/>
              </a:solidFill>
              <a:latin typeface="Arial"/>
            </a:endParaRPr>
          </a:p>
        </p:txBody>
      </p:sp>
      <p:sp>
        <p:nvSpPr>
          <p:cNvPr id="50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善丈夫。佛有十地。一切菩萨及声闻辟支佛等所不能行。何者为十。一名甚深难知广明智德地。二名清净身分威严不思议明德地。三名善明月幢宝相海藏地。四名精妙金光功德神通智德地。五名火轮威藏明德地。六名虚空内清净无垢焰光开相地。七名广胜法界藏明界地。八名最净普觉智藏能净无垢遍无碍智通地。九名无边亿庄严回向能照明地。十名毗卢遮那智海藏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有十级</a:t>
            </a:r>
            <a:endParaRPr b="0" lang="en-US" sz="4400" spc="-1" strike="noStrike">
              <a:solidFill>
                <a:srgbClr val="000000"/>
              </a:solidFill>
              <a:latin typeface="Arial"/>
            </a:endParaRPr>
          </a:p>
        </p:txBody>
      </p:sp>
      <p:sp>
        <p:nvSpPr>
          <p:cNvPr id="50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善丈夫。佛初地者一切微细习气除故。复一切法得自在故。第二地者转法轮故说深法故。第三地者说诸声闻戒故。又复显说三乘故。第四地者说八万四千法门故。又复降伏四种魔故。第五地者如法降伏诸外道故。又复降伏傲慢及众数故。第六地者教示无量众生六通中故。又复显现六种大神通故。谓现无边清净佛刹功德庄严。显现无边菩萨大众围绕。显现无边广大佛刹。显现无边佛刹自体。显现无边诸佛刹中从兜率天下托胎乃至法灭。示现无边种种神通。第七地者为诸菩萨如实说七菩提分无所有故。复无所著故。第八地者受一切菩萨阿耨多罗三藐三菩提四种记故。第九地者为诸菩萨现善方便故。第十地者为诸菩萨说一切诸法无所有故。复告令知一切诸法本来寂灭大涅槃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十八罗汉</a:t>
            </a:r>
            <a:endParaRPr b="0" lang="en-US" sz="4400" spc="-1" strike="noStrike">
              <a:solidFill>
                <a:srgbClr val="000000"/>
              </a:solidFill>
              <a:latin typeface="Arial"/>
            </a:endParaRPr>
          </a:p>
        </p:txBody>
      </p:sp>
      <p:sp>
        <p:nvSpPr>
          <p:cNvPr id="50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0" name="图片 49155" descr="18luohan"/>
          <p:cNvPicPr/>
          <p:nvPr/>
        </p:nvPicPr>
        <p:blipFill>
          <a:blip r:embed="rId1"/>
          <a:stretch/>
        </p:blipFill>
        <p:spPr>
          <a:xfrm>
            <a:off x="1187280" y="1484280"/>
            <a:ext cx="6944040" cy="5208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观世音菩萨</a:t>
            </a:r>
            <a:r>
              <a:rPr b="0" lang="en-US" sz="4400" spc="-1" strike="noStrike">
                <a:solidFill>
                  <a:srgbClr val="000000"/>
                </a:solidFill>
                <a:latin typeface="Arial"/>
              </a:rPr>
              <a:t>-</a:t>
            </a:r>
            <a:r>
              <a:rPr b="0" lang="zh-CN" sz="4400" spc="-1" strike="noStrike">
                <a:solidFill>
                  <a:srgbClr val="000000"/>
                </a:solidFill>
                <a:latin typeface="Arial"/>
              </a:rPr>
              <a:t>卡通</a:t>
            </a:r>
            <a:endParaRPr b="0" lang="en-US" sz="4400" spc="-1" strike="noStrike">
              <a:solidFill>
                <a:srgbClr val="000000"/>
              </a:solidFill>
              <a:latin typeface="Arial"/>
            </a:endParaRPr>
          </a:p>
        </p:txBody>
      </p:sp>
      <p:sp>
        <p:nvSpPr>
          <p:cNvPr id="5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3" name="图片 44035" descr="BaoBuPuSa(GuanSHiYinPuSaAgo)"/>
          <p:cNvPicPr/>
          <p:nvPr/>
        </p:nvPicPr>
        <p:blipFill>
          <a:blip r:embed="rId1"/>
          <a:stretch/>
        </p:blipFill>
        <p:spPr>
          <a:xfrm>
            <a:off x="3708360" y="2421000"/>
            <a:ext cx="1685880" cy="271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千大千世界</a:t>
            </a:r>
            <a:endParaRPr b="0" lang="en-US" sz="4400" spc="-1" strike="noStrike">
              <a:solidFill>
                <a:srgbClr val="000000"/>
              </a:solidFill>
              <a:latin typeface="Arial"/>
            </a:endParaRPr>
          </a:p>
        </p:txBody>
      </p:sp>
      <p:sp>
        <p:nvSpPr>
          <p:cNvPr id="45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个小世界有四个洲四个星球，即东胜神州，西牛贺州，北俱芦洲，南瞻部洲。其中南瞻部洲就是地球。</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千个小世界组成一个中千世界。</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千个中千世界组成一个大千世界。一个佛管一个大千世界，即</a:t>
            </a:r>
            <a:r>
              <a:rPr b="0" lang="en-US" sz="3200" spc="-1" strike="noStrike">
                <a:solidFill>
                  <a:srgbClr val="000000"/>
                </a:solidFill>
                <a:latin typeface="Arial"/>
              </a:rPr>
              <a:t>10</a:t>
            </a:r>
            <a:r>
              <a:rPr b="0" lang="zh-CN" sz="3200" spc="-1" strike="noStrike">
                <a:solidFill>
                  <a:srgbClr val="000000"/>
                </a:solidFill>
                <a:latin typeface="Arial"/>
              </a:rPr>
              <a:t>的</a:t>
            </a:r>
            <a:r>
              <a:rPr b="0" lang="en-US" sz="3200" spc="-1" strike="noStrike">
                <a:solidFill>
                  <a:srgbClr val="000000"/>
                </a:solidFill>
                <a:latin typeface="Arial"/>
              </a:rPr>
              <a:t>9</a:t>
            </a:r>
            <a:r>
              <a:rPr b="0" lang="zh-CN" sz="3200" spc="-1" strike="noStrike">
                <a:solidFill>
                  <a:srgbClr val="000000"/>
                </a:solidFill>
                <a:latin typeface="Arial"/>
              </a:rPr>
              <a:t>次方个小世界。</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我们所在的这个大千世界叫娑婆世界，娑婆就是堪忍，可以忍受的意思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南无愿如来</a:t>
            </a:r>
            <a:endParaRPr b="0" lang="en-US" sz="4400" spc="-1" strike="noStrike">
              <a:solidFill>
                <a:srgbClr val="000000"/>
              </a:solidFill>
              <a:latin typeface="Arial"/>
            </a:endParaRPr>
          </a:p>
        </p:txBody>
      </p:sp>
      <p:sp>
        <p:nvSpPr>
          <p:cNvPr id="51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教小孩小学生一起念</a:t>
            </a:r>
            <a:r>
              <a:rPr b="0" lang="en-US" sz="3200" spc="-1" strike="noStrike">
                <a:solidFill>
                  <a:srgbClr val="000000"/>
                </a:solidFill>
                <a:latin typeface="Arial"/>
              </a:rPr>
              <a:t>“</a:t>
            </a:r>
            <a:r>
              <a:rPr b="0" lang="zh-CN" sz="3200" spc="-1" strike="noStrike">
                <a:solidFill>
                  <a:srgbClr val="000000"/>
                </a:solidFill>
                <a:latin typeface="Arial"/>
              </a:rPr>
              <a:t>南无愿如来</a:t>
            </a:r>
            <a:r>
              <a:rPr b="0" lang="en-US"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a:t>
            </a:r>
            <a:r>
              <a:rPr b="0" lang="zh-CN" sz="3200" spc="-1" strike="noStrike">
                <a:solidFill>
                  <a:srgbClr val="000000"/>
                </a:solidFill>
                <a:latin typeface="Arial"/>
              </a:rPr>
              <a:t>原来佛菩萨在保护我们！</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普贤菩萨</a:t>
            </a:r>
            <a:endParaRPr b="0" lang="en-US" sz="4400" spc="-1" strike="noStrike">
              <a:solidFill>
                <a:srgbClr val="000000"/>
              </a:solidFill>
              <a:latin typeface="Arial"/>
            </a:endParaRPr>
          </a:p>
        </p:txBody>
      </p:sp>
      <p:sp>
        <p:nvSpPr>
          <p:cNvPr id="5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8" name="图片 45059" descr="DaXingPuXianPuSa_PerfectGoldenColor"/>
          <p:cNvPicPr/>
          <p:nvPr/>
        </p:nvPicPr>
        <p:blipFill>
          <a:blip r:embed="rId1"/>
          <a:stretch/>
        </p:blipFill>
        <p:spPr>
          <a:xfrm>
            <a:off x="2627280" y="1413000"/>
            <a:ext cx="3925800" cy="5234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普贤王如来</a:t>
            </a:r>
            <a:endParaRPr b="0" lang="en-US" sz="4400" spc="-1" strike="noStrike">
              <a:solidFill>
                <a:srgbClr val="000000"/>
              </a:solidFill>
              <a:latin typeface="Arial"/>
            </a:endParaRPr>
          </a:p>
        </p:txBody>
      </p:sp>
      <p:sp>
        <p:nvSpPr>
          <p:cNvPr id="52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1" name="图片 48131" descr="buddha"/>
          <p:cNvPicPr/>
          <p:nvPr/>
        </p:nvPicPr>
        <p:blipFill>
          <a:blip r:embed="rId1"/>
          <a:stretch/>
        </p:blipFill>
        <p:spPr>
          <a:xfrm>
            <a:off x="2987640" y="1628640"/>
            <a:ext cx="3133800" cy="4762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大智文殊菩萨</a:t>
            </a:r>
            <a:endParaRPr b="0" lang="en-US" sz="4400" spc="-1" strike="noStrike">
              <a:solidFill>
                <a:srgbClr val="000000"/>
              </a:solidFill>
              <a:latin typeface="Arial"/>
            </a:endParaRPr>
          </a:p>
        </p:txBody>
      </p:sp>
      <p:sp>
        <p:nvSpPr>
          <p:cNvPr id="52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4" name="图片 46083" descr="DaZhiWenShuPuSa_PerfectRedColor"/>
          <p:cNvPicPr/>
          <p:nvPr/>
        </p:nvPicPr>
        <p:blipFill>
          <a:blip r:embed="rId1"/>
          <a:stretch/>
        </p:blipFill>
        <p:spPr>
          <a:xfrm>
            <a:off x="2195640" y="1628640"/>
            <a:ext cx="4897440" cy="4561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释迦牟尼佛年轻时的画像</a:t>
            </a:r>
            <a:endParaRPr b="0" lang="en-US" sz="4400" spc="-1" strike="noStrike">
              <a:solidFill>
                <a:srgbClr val="000000"/>
              </a:solidFill>
              <a:latin typeface="Arial"/>
            </a:endParaRPr>
          </a:p>
        </p:txBody>
      </p:sp>
      <p:sp>
        <p:nvSpPr>
          <p:cNvPr id="52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7" name="图片 54275" descr="youthfotuo"/>
          <p:cNvPicPr/>
          <p:nvPr/>
        </p:nvPicPr>
        <p:blipFill>
          <a:blip r:embed="rId1"/>
          <a:stretch/>
        </p:blipFill>
        <p:spPr>
          <a:xfrm>
            <a:off x="3059280" y="1628640"/>
            <a:ext cx="3295440" cy="4321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药师佛</a:t>
            </a:r>
            <a:endParaRPr b="0" lang="en-US" sz="4400" spc="-1" strike="noStrike">
              <a:solidFill>
                <a:srgbClr val="000000"/>
              </a:solidFill>
              <a:latin typeface="Arial"/>
            </a:endParaRPr>
          </a:p>
        </p:txBody>
      </p:sp>
      <p:sp>
        <p:nvSpPr>
          <p:cNvPr id="52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0" name="图片 47107" descr="yaoshifoxiang"/>
          <p:cNvPicPr/>
          <p:nvPr/>
        </p:nvPicPr>
        <p:blipFill>
          <a:blip r:embed="rId1"/>
          <a:stretch/>
        </p:blipFill>
        <p:spPr>
          <a:xfrm>
            <a:off x="2771640" y="1268280"/>
            <a:ext cx="3810240" cy="5419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3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3" name="图片 50179" descr="mao"/>
          <p:cNvPicPr/>
          <p:nvPr/>
        </p:nvPicPr>
        <p:blipFill>
          <a:blip r:embed="rId1"/>
          <a:stretch/>
        </p:blipFill>
        <p:spPr>
          <a:xfrm>
            <a:off x="2124000" y="260280"/>
            <a:ext cx="5024520" cy="6193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毛泽东：喜力王菩萨</a:t>
            </a:r>
            <a:endParaRPr b="0" lang="en-US" sz="4400" spc="-1" strike="noStrike">
              <a:solidFill>
                <a:srgbClr val="000000"/>
              </a:solidFill>
              <a:latin typeface="Arial"/>
            </a:endParaRPr>
          </a:p>
        </p:txBody>
      </p:sp>
      <p:sp>
        <p:nvSpPr>
          <p:cNvPr id="53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贤劫千佛名经</a:t>
            </a:r>
            <a:r>
              <a:rPr b="0" lang="en-US" sz="3200" spc="-1" strike="noStrike">
                <a:solidFill>
                  <a:srgbClr val="000000"/>
                </a:solidFill>
                <a:latin typeface="Arial"/>
              </a:rPr>
              <a:t>》</a:t>
            </a:r>
            <a:r>
              <a:rPr b="0" lang="zh-CN" sz="3200" spc="-1" strike="noStrike">
                <a:solidFill>
                  <a:srgbClr val="000000"/>
                </a:solidFill>
                <a:latin typeface="Arial"/>
              </a:rPr>
              <a:t>，第</a:t>
            </a:r>
            <a:r>
              <a:rPr b="0" lang="en-US" sz="3200" spc="-1" strike="noStrike">
                <a:solidFill>
                  <a:srgbClr val="000000"/>
                </a:solidFill>
                <a:latin typeface="Arial"/>
              </a:rPr>
              <a:t>370</a:t>
            </a:r>
            <a:r>
              <a:rPr b="0" lang="zh-CN" sz="3200" spc="-1" strike="noStrike">
                <a:solidFill>
                  <a:srgbClr val="000000"/>
                </a:solidFill>
                <a:latin typeface="Arial"/>
              </a:rPr>
              <a:t>佛，喜力王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看相貌：有喜，有力，有王。</a:t>
            </a:r>
            <a:endParaRPr b="0" lang="en-US" sz="3200" spc="-1" strike="noStrike">
              <a:solidFill>
                <a:srgbClr val="000000"/>
              </a:solidFill>
              <a:latin typeface="Arial"/>
            </a:endParaRPr>
          </a:p>
        </p:txBody>
      </p:sp>
      <p:pic>
        <p:nvPicPr>
          <p:cNvPr id="536" name="图片 51203" descr="2009061109555554"/>
          <p:cNvPicPr/>
          <p:nvPr/>
        </p:nvPicPr>
        <p:blipFill>
          <a:blip r:embed="rId1"/>
          <a:stretch/>
        </p:blipFill>
        <p:spPr>
          <a:xfrm>
            <a:off x="3348000" y="2781360"/>
            <a:ext cx="271800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68360" y="472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金身如来，佛法无边！见者得福（送</a:t>
            </a:r>
            <a:r>
              <a:rPr b="0" lang="en-US" sz="2400" spc="-1" strike="noStrike">
                <a:solidFill>
                  <a:srgbClr val="000000"/>
                </a:solidFill>
                <a:latin typeface="Arial"/>
              </a:rPr>
              <a:t>400</a:t>
            </a:r>
            <a:r>
              <a:rPr b="0" lang="zh-CN" sz="2400" spc="-1" strike="noStrike">
                <a:solidFill>
                  <a:srgbClr val="000000"/>
                </a:solidFill>
                <a:latin typeface="Arial"/>
              </a:rPr>
              <a:t>元福报）！ </a:t>
            </a:r>
            <a:endParaRPr b="0" lang="en-US" sz="2400" spc="-1" strike="noStrike">
              <a:solidFill>
                <a:srgbClr val="000000"/>
              </a:solidFill>
              <a:latin typeface="Arial"/>
            </a:endParaRPr>
          </a:p>
        </p:txBody>
      </p:sp>
      <p:pic>
        <p:nvPicPr>
          <p:cNvPr id="538" name="图片 63491" descr="goldenbuddha"/>
          <p:cNvPicPr/>
          <p:nvPr/>
        </p:nvPicPr>
        <p:blipFill>
          <a:blip r:embed="rId1"/>
          <a:stretch/>
        </p:blipFill>
        <p:spPr>
          <a:xfrm>
            <a:off x="3059280" y="1700280"/>
            <a:ext cx="2962080" cy="28573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几个实用的佛法</a:t>
            </a:r>
            <a:endParaRPr b="0" lang="en-US" sz="4400" spc="-1" strike="noStrike">
              <a:solidFill>
                <a:srgbClr val="000000"/>
              </a:solidFill>
              <a:latin typeface="Arial"/>
            </a:endParaRPr>
          </a:p>
        </p:txBody>
      </p:sp>
      <p:sp>
        <p:nvSpPr>
          <p:cNvPr id="54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世上有四种人：第一种人折磨自己。第二种人折磨他人。第三种人折磨自己和他人。第四种人既不折磨自己，也不折磨他人，无欲清净，幸福快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要做既不折磨自己也不折磨他人的人啊！花一二十秒钟，观心改变一下心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界</a:t>
            </a:r>
            <a:endParaRPr b="0" lang="en-US" sz="4400" spc="-1" strike="noStrike">
              <a:solidFill>
                <a:srgbClr val="000000"/>
              </a:solidFill>
              <a:latin typeface="Arial"/>
            </a:endParaRPr>
          </a:p>
        </p:txBody>
      </p:sp>
      <p:sp>
        <p:nvSpPr>
          <p:cNvPr id="45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们这个世界分为三界，即欲界，色界（物质界），无色界（精神界）。色就是颜色的色，即物质的意思。</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欲界六重天：四天王天（淫），忉利天（正淫），须焰摩天（相抱），兜率陀天（拉手），乐变化天（相笑），他化自在天（相视）。</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四天王天和忉利天还有淫欲，须焰摩天是抱一下就没有淫欲了，兜率陀天是拉手，乐变化天是相笑，他化自在天是眼睛相视。淫欲越来越淡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种菩萨</a:t>
            </a:r>
            <a:endParaRPr b="0" lang="en-US" sz="4400" spc="-1" strike="noStrike">
              <a:solidFill>
                <a:srgbClr val="000000"/>
              </a:solidFill>
              <a:latin typeface="Arial"/>
            </a:endParaRPr>
          </a:p>
        </p:txBody>
      </p:sp>
      <p:sp>
        <p:nvSpPr>
          <p:cNvPr id="542" name=""/>
          <p:cNvSpPr txBox="1"/>
          <p:nvPr/>
        </p:nvSpPr>
        <p:spPr>
          <a:xfrm>
            <a:off x="457200" y="1506600"/>
            <a:ext cx="8229600" cy="4619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菩萨有三种，即：智慧型，德望型，精进型。根据经典，智慧型者在短时间内成佛，德望型需要的时间较长，而精进型所需时间更长。精进做事业其实都是有为法（有因缘造作之法），所以精进型菩萨成佛所需时间最长，德望型则倾向于证德高望重，仍是有为法相关，智慧型则是修无为法，更多地修习禅定（由定生慧），所以成佛最快。大家要开始把自己变为智慧型菩萨（就是心想要改为追求智慧）！这也是很实效的哈！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不过精进型菩萨毕竟事业大些，成的佛厉害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去掉嫉妒心则力大</a:t>
            </a:r>
            <a:endParaRPr b="0" lang="en-US" sz="4400" spc="-1" strike="noStrike">
              <a:solidFill>
                <a:srgbClr val="000000"/>
              </a:solidFill>
              <a:latin typeface="Arial"/>
            </a:endParaRPr>
          </a:p>
        </p:txBody>
      </p:sp>
      <p:sp>
        <p:nvSpPr>
          <p:cNvPr id="5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切有大力，其心无嫉妒。” </a:t>
            </a:r>
            <a:r>
              <a:rPr b="0" lang="en-US"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大般涅槃经</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无嫉妒心则力大！去掉嫉妒心后则会长得很壮！这个法很重要很厉害！你看很强壮的人都是没有嫉妒心！去掉嫉妒心的关键是思惟想通大家都可以很厉害，不必嫉妒，再就是发起随喜心可以去掉嫉妒！</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去掉嫉妒心后会随即发现饭量大增，开始长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生起恭敬心长得高</a:t>
            </a:r>
            <a:endParaRPr b="0" lang="en-US" sz="4400" spc="-1" strike="noStrike">
              <a:solidFill>
                <a:srgbClr val="000000"/>
              </a:solidFill>
              <a:latin typeface="Arial"/>
            </a:endParaRPr>
          </a:p>
        </p:txBody>
      </p:sp>
      <p:sp>
        <p:nvSpPr>
          <p:cNvPr id="54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个佛法实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尊敬他人得长得高的果报，这里的尊敬他人实际上就是恭敬他人，恭敬每一个人（思惟每个人都有长处优点特点，可以恭敬）！</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每个人都值得恭敬哈！都有他的特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发起恭敬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开窍进入密乘</a:t>
            </a:r>
            <a:endParaRPr b="0" lang="en-US" sz="4400" spc="-1" strike="noStrike">
              <a:solidFill>
                <a:srgbClr val="000000"/>
              </a:solidFill>
              <a:latin typeface="Arial"/>
            </a:endParaRPr>
          </a:p>
        </p:txBody>
      </p:sp>
      <p:sp>
        <p:nvSpPr>
          <p:cNvPr id="54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这是我目前最厉害的佛法。真正开窍了会终生受益！</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开窍就是想通两点：善心行恶法（硬汉），善心行俗法（爱敬法）！想通证了后脑袋里会蹦的小响一下，然后就开窍了！</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善心行恶法，用本质为善心的恶法直接反恶法，这也就是硬汉。把贪嗔痴的俗话以善心说出来，别人就会觉得你幽默风趣搞笑，从而爱敬你。</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开窍后会对事业和爱情，人际关系处理等都有了实质性的帮助和突破。大家仔细思惟这两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虔诚</a:t>
            </a:r>
            <a:endParaRPr b="0" lang="en-US" sz="4400" spc="-1" strike="noStrike">
              <a:solidFill>
                <a:srgbClr val="000000"/>
              </a:solidFill>
              <a:latin typeface="Arial"/>
            </a:endParaRPr>
          </a:p>
        </p:txBody>
      </p:sp>
      <p:sp>
        <p:nvSpPr>
          <p:cNvPr id="55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有四种人，聪明但不虔诚，虔诚但不聪明，不聪明也不虔诚，既聪明又虔诚。虔诚与聪明同等重要哈！虔诚的人不自大，唱歌声音好听！愿大家速证虔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幸福的秘密</a:t>
            </a:r>
            <a:endParaRPr b="0" lang="en-US" sz="4400" spc="-1" strike="noStrike">
              <a:solidFill>
                <a:srgbClr val="000000"/>
              </a:solidFill>
              <a:latin typeface="Arial"/>
            </a:endParaRPr>
          </a:p>
        </p:txBody>
      </p:sp>
      <p:sp>
        <p:nvSpPr>
          <p:cNvPr id="55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幸福的秘密在于要有感恩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有感恩心就会幸福！发起感恩心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过去共产党的缺点就是没有感恩心！没有感恩心，别人施恩于你之后，别人会感觉是白施了，跟没施一样（因为你没感恩），这样就感觉不好了！对方会不再布施施恩于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6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开放思维</a:t>
            </a:r>
            <a:endParaRPr b="0" lang="en-US" sz="4400" spc="-1" strike="noStrike">
              <a:solidFill>
                <a:srgbClr val="000000"/>
              </a:solidFill>
              <a:latin typeface="Arial"/>
            </a:endParaRPr>
          </a:p>
        </p:txBody>
      </p:sp>
      <p:sp>
        <p:nvSpPr>
          <p:cNvPr id="55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行已知的法，也行未知的法，一边行一边探索纠正，这就是完全的开放思维（中国人还普遍缺这种思维）！</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还有很多不知道怎么办？也开始做！只要大方向是对的！以后自然会产生变化和新的机遇！不保守，勇敢！</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行已知法实现理想，行未知法实现梦想。所以梦想比理想宏大但难些（需要方向对然后得到别人的帮助）。要证开放思维就能行未知法实现梦想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关于爱情</a:t>
            </a:r>
            <a:endParaRPr b="0" lang="en-US" sz="4400" spc="-1" strike="noStrike">
              <a:solidFill>
                <a:srgbClr val="000000"/>
              </a:solidFill>
              <a:latin typeface="Arial"/>
            </a:endParaRPr>
          </a:p>
        </p:txBody>
      </p:sp>
      <p:sp>
        <p:nvSpPr>
          <p:cNvPr id="55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由爱欲故生忧，由爱欲故生怖，若离于爱欲，无忧亦无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所有爱情都是伤感的，因为爱情里掺了欲望，因此菩萨抛弃爱情（诸漏是苦）。要不掺欲望真心地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终于解脱了爱情。解脱爱情的关键在于去掉淫欲贪！</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谈情说爱</a:t>
            </a:r>
            <a:endParaRPr b="0" lang="en-US" sz="4400" spc="-1" strike="noStrike">
              <a:solidFill>
                <a:srgbClr val="000000"/>
              </a:solidFill>
              <a:latin typeface="Arial"/>
            </a:endParaRPr>
          </a:p>
        </p:txBody>
      </p:sp>
      <p:sp>
        <p:nvSpPr>
          <p:cNvPr id="55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关于谈情说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谈情是苦，说爱是虚伪！</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大家自己体会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形成商业财富思维</a:t>
            </a:r>
            <a:endParaRPr b="0" lang="en-US" sz="4400" spc="-1" strike="noStrike">
              <a:solidFill>
                <a:srgbClr val="000000"/>
              </a:solidFill>
              <a:latin typeface="Arial"/>
            </a:endParaRPr>
          </a:p>
        </p:txBody>
      </p:sp>
      <p:sp>
        <p:nvSpPr>
          <p:cNvPr id="5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富贵是好事（这才是正确的财富观），只要你会掌控钱财，不执着于钱财，多布施不为其所害。</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开始勇猛行佛法事业了！在懂商业财富之道后！！</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学会领悟弄懂真正并且正确的财富观的方法是开始常行大布施（比如布施</a:t>
            </a:r>
            <a:r>
              <a:rPr b="0" lang="en-US" sz="1800" spc="-1" strike="noStrike">
                <a:solidFill>
                  <a:srgbClr val="000000"/>
                </a:solidFill>
                <a:latin typeface="Arial"/>
              </a:rPr>
              <a:t>80%</a:t>
            </a:r>
            <a:r>
              <a:rPr b="0" lang="zh-CN" sz="1800" spc="-1" strike="noStrike">
                <a:solidFill>
                  <a:srgbClr val="000000"/>
                </a:solidFill>
                <a:latin typeface="Arial"/>
              </a:rPr>
              <a:t>到</a:t>
            </a:r>
            <a:r>
              <a:rPr b="0" lang="en-US" sz="1800" spc="-1" strike="noStrike">
                <a:solidFill>
                  <a:srgbClr val="000000"/>
                </a:solidFill>
                <a:latin typeface="Arial"/>
              </a:rPr>
              <a:t>90%</a:t>
            </a:r>
            <a:r>
              <a:rPr b="0" lang="zh-CN" sz="1800" spc="-1" strike="noStrike">
                <a:solidFill>
                  <a:srgbClr val="000000"/>
                </a:solidFill>
                <a:latin typeface="Arial"/>
              </a:rPr>
              <a:t>的月薪），坚持四五个月即可， 然后你会受益很大，成为富人思维（穷人思维和富人思维不同，你会得此转变并随即受益）！</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现在终于是富人思维了！五个月大布施的结果（比如学会了每个人布施多少钱，这些调控有利于你理解财富）！</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去掉自己的不劳而获的心，还有也要去掉让别人不劳而获的歪利他心，这种心不对不好，没有必要。</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修成财神法，每月布施工资</a:t>
            </a:r>
            <a:r>
              <a:rPr b="0" lang="en-US" sz="2400" spc="-1" strike="noStrike">
                <a:solidFill>
                  <a:srgbClr val="000000"/>
                </a:solidFill>
                <a:latin typeface="Arial"/>
              </a:rPr>
              <a:t>80</a:t>
            </a:r>
            <a:r>
              <a:rPr b="0" lang="zh-CN" sz="2400" spc="-1" strike="noStrike">
                <a:solidFill>
                  <a:srgbClr val="000000"/>
                </a:solidFill>
                <a:latin typeface="Arial"/>
              </a:rPr>
              <a:t>％到</a:t>
            </a:r>
            <a:r>
              <a:rPr b="0" lang="en-US" sz="2400" spc="-1" strike="noStrike">
                <a:solidFill>
                  <a:srgbClr val="000000"/>
                </a:solidFill>
                <a:latin typeface="Arial"/>
              </a:rPr>
              <a:t>90</a:t>
            </a:r>
            <a:r>
              <a:rPr b="0" lang="zh-CN" sz="2400" spc="-1" strike="noStrike">
                <a:solidFill>
                  <a:srgbClr val="000000"/>
                </a:solidFill>
                <a:latin typeface="Arial"/>
              </a:rPr>
              <a:t>％，坚持</a:t>
            </a:r>
            <a:r>
              <a:rPr b="0" lang="en-US" sz="2400" spc="-1" strike="noStrike">
                <a:solidFill>
                  <a:srgbClr val="000000"/>
                </a:solidFill>
                <a:latin typeface="Arial"/>
              </a:rPr>
              <a:t>5</a:t>
            </a:r>
            <a:r>
              <a:rPr b="0" lang="zh-CN" sz="2400" spc="-1" strike="noStrike">
                <a:solidFill>
                  <a:srgbClr val="000000"/>
                </a:solidFill>
                <a:latin typeface="Arial"/>
              </a:rPr>
              <a:t>到</a:t>
            </a:r>
            <a:r>
              <a:rPr b="0" lang="en-US" sz="2400" spc="-1" strike="noStrike">
                <a:solidFill>
                  <a:srgbClr val="000000"/>
                </a:solidFill>
                <a:latin typeface="Arial"/>
              </a:rPr>
              <a:t>7</a:t>
            </a:r>
            <a:r>
              <a:rPr b="0" lang="zh-CN" sz="2400" spc="-1" strike="noStrike">
                <a:solidFill>
                  <a:srgbClr val="000000"/>
                </a:solidFill>
                <a:latin typeface="Arial"/>
              </a:rPr>
              <a:t>个月，实践者成财神，财富上万亿！</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见到乞丐就布施</a:t>
            </a:r>
            <a:r>
              <a:rPr b="0" lang="en-US" sz="2800" spc="-1" strike="noStrike">
                <a:solidFill>
                  <a:srgbClr val="000000"/>
                </a:solidFill>
                <a:latin typeface="Arial"/>
              </a:rPr>
              <a:t>50</a:t>
            </a:r>
            <a:r>
              <a:rPr b="0" lang="zh-CN" sz="2800" spc="-1" strike="noStrike">
                <a:solidFill>
                  <a:srgbClr val="000000"/>
                </a:solidFill>
                <a:latin typeface="Arial"/>
              </a:rPr>
              <a:t>元（不管真假乞丐），迅速修成中财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色界</a:t>
            </a:r>
            <a:endParaRPr b="0" lang="en-US" sz="4400" spc="-1" strike="noStrike">
              <a:solidFill>
                <a:srgbClr val="000000"/>
              </a:solidFill>
              <a:latin typeface="Arial"/>
            </a:endParaRPr>
          </a:p>
        </p:txBody>
      </p:sp>
      <p:sp>
        <p:nvSpPr>
          <p:cNvPr id="4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色界四禅：初禅（梵众天，梵辅天，大梵天）、二禅（少光天，无量光天，光音天）、三禅（少净天，无量净天，遍净天）、四禅（福生天，福爱天，广果天，无想天，无烦天，无热天，善现天，善见天，色究竟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色界天人是没有淫欲的。地球属于欲界，有淫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关于六神通</a:t>
            </a:r>
            <a:endParaRPr b="0" lang="en-US" sz="4400" spc="-1" strike="noStrike">
              <a:solidFill>
                <a:srgbClr val="000000"/>
              </a:solidFill>
              <a:latin typeface="Arial"/>
            </a:endParaRPr>
          </a:p>
        </p:txBody>
      </p:sp>
      <p:sp>
        <p:nvSpPr>
          <p:cNvPr id="56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神通：他心通（知道别人心里想什么，相互用他心通对话）、宿命通（知道过去世）、天眼通（看见与自己相关的画面，即使很远）、天耳通（听见与自己相关的声音，即使不在近处）、神足通（瞬间转移，这里消失，那里出现）、漏尽通（无烦恼，无漏洞的能力。前面五通外道也有，漏尽通只有佛教才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有三不能</a:t>
            </a:r>
            <a:endParaRPr b="0" lang="en-US" sz="4400" spc="-1" strike="noStrike">
              <a:solidFill>
                <a:srgbClr val="000000"/>
              </a:solidFill>
              <a:latin typeface="Arial"/>
            </a:endParaRPr>
          </a:p>
        </p:txBody>
      </p:sp>
      <p:sp>
        <p:nvSpPr>
          <p:cNvPr id="56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佛有三不能：不能度尽众生，不能度无缘之人，不能即时灭转定业！</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基督教上帝万能悖论：如果上帝是万能的，那他可以创造出一块他搬不起来的石头吗？如果他是万能的，那他就创造得出来，这样他就不是万能的了（不能搬起这块石头），这也就成了一个悖论。所以万能是不可能的！佛教密乘只讲修成接近万能的能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外道</a:t>
            </a:r>
            <a:endParaRPr b="0" lang="en-US" sz="4400" spc="-1" strike="noStrike">
              <a:solidFill>
                <a:srgbClr val="000000"/>
              </a:solidFill>
              <a:latin typeface="Arial"/>
            </a:endParaRPr>
          </a:p>
        </p:txBody>
      </p:sp>
      <p:sp>
        <p:nvSpPr>
          <p:cNvPr id="56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诸恶莫作，众善奉行，自净其意，是诸佛教。</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心外求法，是名外道。</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外道六师：见色（唯物主义者），闻声（精神愉悦主义者），香足（享乐主义者），辩才（欺骗者，邪师），随缘（宿命主义者），易染（不会独立思考，没有主见者）。</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唯物的反例：穿墙术。如果你能神通达到穿墙，心无物碍，你就知道唯物的说法是凡夫境界。而穿墙术的神通是有很多记载的，甚至有穿墙失败而夹在墙中死去的例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直在修行</a:t>
            </a:r>
            <a:endParaRPr b="0" lang="en-US" sz="4400" spc="-1" strike="noStrike">
              <a:solidFill>
                <a:srgbClr val="000000"/>
              </a:solidFill>
              <a:latin typeface="Arial"/>
            </a:endParaRPr>
          </a:p>
        </p:txBody>
      </p:sp>
      <p:sp>
        <p:nvSpPr>
          <p:cNvPr id="5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大智度论</a:t>
            </a:r>
            <a:r>
              <a:rPr b="0" lang="en-US" sz="2800" spc="-1" strike="noStrike">
                <a:solidFill>
                  <a:srgbClr val="000000"/>
                </a:solidFill>
                <a:latin typeface="Arial"/>
              </a:rPr>
              <a:t>》</a:t>
            </a:r>
            <a:r>
              <a:rPr b="0" lang="zh-CN" sz="2800" spc="-1" strike="noStrike">
                <a:solidFill>
                  <a:srgbClr val="000000"/>
                </a:solidFill>
                <a:latin typeface="Arial"/>
              </a:rPr>
              <a:t>：一切世界皆有三种人。下中上。下人，着现世乐。中人，求后世乐。上人，求道，有慈悲心，怜愍众生。</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着重欲界的人追求生活体验（一直在生活），着重物质界的人追求现世（一直在赚钱），着重精神界的人追求后世（一直在学习），着重涅槃界的人求道（一直在修行）。思惟想通此可转变为着重涅槃界的求道之人！</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要由一直在学习进步为一直在修行！一直在学习是注重无色界精神界，一直在修行是注重涅槃道界！后者才是对的（虽然一直在学习也要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关于惭愧心</a:t>
            </a:r>
            <a:endParaRPr b="0" lang="en-US" sz="4400" spc="-1" strike="noStrike">
              <a:solidFill>
                <a:srgbClr val="000000"/>
              </a:solidFill>
              <a:latin typeface="Arial"/>
            </a:endParaRPr>
          </a:p>
        </p:txBody>
      </p:sp>
      <p:sp>
        <p:nvSpPr>
          <p:cNvPr id="57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王，诸佛世尊常说是言：‘有二白法能救众生，一惭、二愧。’惭者自不作罪，愧者不教他作；惭者内自羞耻，愧者发露向人；惭者羞人，愧者羞天，是名惭愧。无惭愧者不名为人，名为畜生。有惭愧故则能恭敬父母师长，有惭愧故说有父母、兄弟、姊妹。</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们往往认为自己所做的事别人不知道，因此不起完全的惭心，实际上却是，无论你做了什么，别人都是可以观察出来的，比如通过面貌和神情等。思惟此，可证完全的惭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八正道</a:t>
            </a:r>
            <a:endParaRPr b="0" lang="en-US" sz="4400" spc="-1" strike="noStrike">
              <a:solidFill>
                <a:srgbClr val="000000"/>
              </a:solidFill>
              <a:latin typeface="Arial"/>
            </a:endParaRPr>
          </a:p>
        </p:txBody>
      </p:sp>
      <p:sp>
        <p:nvSpPr>
          <p:cNvPr id="57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八正道：正见、正思惟、正语、正业、正命（正当的谋生方式）、正精进、正念、正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修佛法的四步骤：信、解、行、证。先相信，再理解，再实践，最后得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诸行无常，是生灭法，生灭灭已，寂灭为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无碍智</a:t>
            </a:r>
            <a:endParaRPr b="0" lang="en-US" sz="4400" spc="-1" strike="noStrike">
              <a:solidFill>
                <a:srgbClr val="000000"/>
              </a:solidFill>
              <a:latin typeface="Arial"/>
            </a:endParaRPr>
          </a:p>
        </p:txBody>
      </p:sp>
      <p:sp>
        <p:nvSpPr>
          <p:cNvPr id="57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无碍智：法无碍智，义（懂文字的意思）无碍智，辞（用词准确）无碍智，乐说（辩才）无碍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长寿：四如意足</a:t>
            </a:r>
            <a:endParaRPr b="0" lang="en-US" sz="4400" spc="-1" strike="noStrike">
              <a:solidFill>
                <a:srgbClr val="000000"/>
              </a:solidFill>
              <a:latin typeface="Arial"/>
            </a:endParaRPr>
          </a:p>
        </p:txBody>
      </p:sp>
      <p:sp>
        <p:nvSpPr>
          <p:cNvPr id="57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四如意足又称四神足，包括欲如意足，精进勤如意足，心如意足和思维如意足。</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长久住世（活几百几千年）的方法，四个条件（四如意足）：调整意欲（欲如意足），功德力加持和勤活动（精进勤如意足），年轻的心态（心如意足），完全不发脾气，福慧双修、慧福双全（思维如意足）。十八罗汉就是修四如意足而长久住世，活了</a:t>
            </a:r>
            <a:r>
              <a:rPr b="0" lang="en-US" sz="2800" spc="-1" strike="noStrike">
                <a:solidFill>
                  <a:srgbClr val="000000"/>
                </a:solidFill>
                <a:latin typeface="Arial"/>
              </a:rPr>
              <a:t>2000</a:t>
            </a:r>
            <a:r>
              <a:rPr b="0" lang="zh-CN" sz="2800" spc="-1" strike="noStrike">
                <a:solidFill>
                  <a:srgbClr val="000000"/>
                </a:solidFill>
                <a:latin typeface="Arial"/>
              </a:rPr>
              <a:t>多年了（我还面见过他们）！</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南无大嘉华如来，证四如意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发财</a:t>
            </a:r>
            <a:endParaRPr b="0" lang="en-US" sz="4400" spc="-1" strike="noStrike">
              <a:solidFill>
                <a:srgbClr val="000000"/>
              </a:solidFill>
              <a:latin typeface="Arial"/>
            </a:endParaRPr>
          </a:p>
        </p:txBody>
      </p:sp>
      <p:sp>
        <p:nvSpPr>
          <p:cNvPr id="57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问得最多的，是问我怎么才能有钱，我告诉他们了，但是没人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嗯</a:t>
            </a:r>
            <a:r>
              <a:rPr b="0" lang="en-US" sz="3200" spc="-1" strike="noStrike">
                <a:solidFill>
                  <a:srgbClr val="000000"/>
                </a:solidFill>
                <a:latin typeface="Arial"/>
              </a:rPr>
              <a:t>---</a:t>
            </a:r>
            <a:r>
              <a:rPr b="0" lang="zh-CN" sz="3200" spc="-1" strike="noStrike">
                <a:solidFill>
                  <a:srgbClr val="000000"/>
                </a:solidFill>
                <a:latin typeface="Arial"/>
              </a:rPr>
              <a:t>你能说答案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可以，我可以告诉任何人这点，很简单：不管身处什么时代，安稳的也好，战乱的也好，浮夸世风也好，只要做到四个字，隐忍、低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南无战斗西方佛</a:t>
            </a:r>
            <a:endParaRPr b="0" lang="en-US" sz="4400" spc="-1" strike="noStrike">
              <a:solidFill>
                <a:srgbClr val="000000"/>
              </a:solidFill>
              <a:latin typeface="Arial"/>
            </a:endParaRPr>
          </a:p>
        </p:txBody>
      </p:sp>
      <p:sp>
        <p:nvSpPr>
          <p:cNvPr id="5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战斗西方佛八本愿：教战斗，一统江湖，有饮食，消食，强身，治毒，疗伤，施爱。</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念好南无战斗西方佛后你练武时（他也会提醒你去练武）他会化现一个圆环影像给你看到（最好有天眼），看到白亮处则教你打过去，看到红亮处则躲避，看到蓝色则后退休息防守消耗对方精力。学武的人可以试试这个佛号！</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南无大猛佛，最加强战斗力！也有战斗西方佛类似的教武功能力，而且是密乘佛，比战斗西方佛（大乘佛）更简单和厉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无色界</a:t>
            </a:r>
            <a:endParaRPr b="0" lang="en-US" sz="4400" spc="-1" strike="noStrike">
              <a:solidFill>
                <a:srgbClr val="000000"/>
              </a:solidFill>
              <a:latin typeface="Arial"/>
            </a:endParaRPr>
          </a:p>
        </p:txBody>
      </p:sp>
      <p:sp>
        <p:nvSpPr>
          <p:cNvPr id="46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无色界四定：空无边处定（追求管理，普化，立业）、识无边处定（追求美好的回忆，立言）、无所有处定（追求成功，立功）、非想非非想处定（追求做事圆满，立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无色界天人也有少量物质，他们的寿命是最长的，平时处于无色界禅定之中和精神讨论，甚至他心通翻译语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教遗言</a:t>
            </a:r>
            <a:endParaRPr b="0" lang="en-US" sz="4400" spc="-1" strike="noStrike">
              <a:solidFill>
                <a:srgbClr val="000000"/>
              </a:solidFill>
              <a:latin typeface="Arial"/>
            </a:endParaRPr>
          </a:p>
        </p:txBody>
      </p:sp>
      <p:sp>
        <p:nvSpPr>
          <p:cNvPr id="58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我的誓愿（佛教遗言）：闻我名者，远离忧苦；见我身者，心生欢喜；听我说者，得大自在；知我心者，即成菩提。这也就是菩萨对自己的要求和菩萨的境界！</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天上天下无如佛，十方世界亦无比，世间所有我尽见，一切无有如佛者。</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日月可堕落，山石可飞空，大海可令枯，佛语诚无妄。如来是真语者、实语者、如语者、不诳语者、不异语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释迦牟尼佛的相貌 </a:t>
            </a:r>
            <a:r>
              <a:rPr b="0" lang="en-US" sz="4000" spc="-1" strike="noStrike">
                <a:solidFill>
                  <a:srgbClr val="000000"/>
                </a:solidFill>
                <a:latin typeface="Arial"/>
              </a:rPr>
              <a:t>– </a:t>
            </a:r>
            <a:r>
              <a:rPr b="0" lang="zh-CN" sz="4000" spc="-1" strike="noStrike">
                <a:solidFill>
                  <a:srgbClr val="000000"/>
                </a:solidFill>
                <a:latin typeface="Arial"/>
              </a:rPr>
              <a:t>最接近的样子</a:t>
            </a:r>
            <a:endParaRPr b="0" lang="en-US" sz="4000" spc="-1" strike="noStrike">
              <a:solidFill>
                <a:srgbClr val="000000"/>
              </a:solidFill>
              <a:latin typeface="Arial"/>
            </a:endParaRPr>
          </a:p>
        </p:txBody>
      </p:sp>
      <p:sp>
        <p:nvSpPr>
          <p:cNvPr id="58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5" name="图片 40963" descr="buddha1"/>
          <p:cNvPicPr/>
          <p:nvPr/>
        </p:nvPicPr>
        <p:blipFill>
          <a:blip r:embed="rId1"/>
          <a:stretch/>
        </p:blipFill>
        <p:spPr>
          <a:xfrm>
            <a:off x="1979640" y="1268280"/>
            <a:ext cx="5253120" cy="53737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教的政党</a:t>
            </a:r>
            <a:endParaRPr b="0" lang="en-US" sz="4400" spc="-1" strike="noStrike">
              <a:solidFill>
                <a:srgbClr val="000000"/>
              </a:solidFill>
              <a:latin typeface="Arial"/>
            </a:endParaRPr>
          </a:p>
        </p:txBody>
      </p:sp>
      <p:sp>
        <p:nvSpPr>
          <p:cNvPr id="58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佛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fodang.huzheng.or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8" name="图片 52228" descr="logo_header"/>
          <p:cNvPicPr/>
          <p:nvPr/>
        </p:nvPicPr>
        <p:blipFill>
          <a:blip r:embed="rId2"/>
          <a:stretch/>
        </p:blipFill>
        <p:spPr>
          <a:xfrm>
            <a:off x="3132000" y="3357720"/>
            <a:ext cx="2095560" cy="5713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提问</a:t>
            </a:r>
            <a:endParaRPr b="0" lang="en-US" sz="4400" spc="-1" strike="noStrike">
              <a:solidFill>
                <a:srgbClr val="000000"/>
              </a:solidFill>
              <a:latin typeface="Arial"/>
            </a:endParaRPr>
          </a:p>
        </p:txBody>
      </p:sp>
      <p:sp>
        <p:nvSpPr>
          <p:cNvPr id="59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欢迎大家提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结束</a:t>
            </a:r>
            <a:endParaRPr b="0" lang="en-US" sz="4400" spc="-1" strike="noStrike">
              <a:solidFill>
                <a:srgbClr val="000000"/>
              </a:solidFill>
              <a:latin typeface="Arial"/>
            </a:endParaRPr>
          </a:p>
        </p:txBody>
      </p:sp>
      <p:sp>
        <p:nvSpPr>
          <p:cNvPr id="59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谢谢大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灭界</a:t>
            </a:r>
            <a:endParaRPr b="0" lang="en-US" sz="4400" spc="-1" strike="noStrike">
              <a:solidFill>
                <a:srgbClr val="000000"/>
              </a:solidFill>
              <a:latin typeface="Arial"/>
            </a:endParaRPr>
          </a:p>
        </p:txBody>
      </p:sp>
      <p:sp>
        <p:nvSpPr>
          <p:cNvPr id="46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除了三界，另外还有一个灭界，即涅槃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轮回中的众生处于三界之中，而证了阿罗汉果，辟支佛果，佛果的人入灭后则处在涅槃界（即黑洞）。纯菩萨进不了涅槃界，必须同时是阿罗汉或辟支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界中是无常，苦，空，无我。涅槃界则是常，乐，我，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教中的时间概念</a:t>
            </a:r>
            <a:r>
              <a:rPr b="0" lang="en-US" sz="4400" spc="-1" strike="noStrike">
                <a:solidFill>
                  <a:srgbClr val="000000"/>
                </a:solidFill>
                <a:latin typeface="Arial"/>
              </a:rPr>
              <a:t>-</a:t>
            </a:r>
            <a:r>
              <a:rPr b="0" lang="zh-CN" sz="4400" spc="-1" strike="noStrike">
                <a:solidFill>
                  <a:srgbClr val="000000"/>
                </a:solidFill>
                <a:latin typeface="Arial"/>
              </a:rPr>
              <a:t>劫</a:t>
            </a:r>
            <a:endParaRPr b="0" lang="en-US" sz="4400" spc="-1" strike="noStrike">
              <a:solidFill>
                <a:srgbClr val="000000"/>
              </a:solidFill>
              <a:latin typeface="Arial"/>
            </a:endParaRPr>
          </a:p>
        </p:txBody>
      </p:sp>
      <p:sp>
        <p:nvSpPr>
          <p:cNvPr id="46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人寿从</a:t>
            </a:r>
            <a:r>
              <a:rPr b="0" lang="en-US" sz="2000" spc="-1" strike="noStrike">
                <a:solidFill>
                  <a:srgbClr val="000000"/>
                </a:solidFill>
                <a:latin typeface="Arial"/>
              </a:rPr>
              <a:t>10</a:t>
            </a:r>
            <a:r>
              <a:rPr b="0" lang="zh-CN" sz="2000" spc="-1" strike="noStrike">
                <a:solidFill>
                  <a:srgbClr val="000000"/>
                </a:solidFill>
                <a:latin typeface="Arial"/>
              </a:rPr>
              <a:t>岁起，每过</a:t>
            </a:r>
            <a:r>
              <a:rPr b="0" lang="en-US" sz="2000" spc="-1" strike="noStrike">
                <a:solidFill>
                  <a:srgbClr val="000000"/>
                </a:solidFill>
                <a:latin typeface="Arial"/>
              </a:rPr>
              <a:t>100</a:t>
            </a:r>
            <a:r>
              <a:rPr b="0" lang="zh-CN" sz="2000" spc="-1" strike="noStrike">
                <a:solidFill>
                  <a:srgbClr val="000000"/>
                </a:solidFill>
                <a:latin typeface="Arial"/>
              </a:rPr>
              <a:t>年增</a:t>
            </a:r>
            <a:r>
              <a:rPr b="0" lang="en-US" sz="2000" spc="-1" strike="noStrike">
                <a:solidFill>
                  <a:srgbClr val="000000"/>
                </a:solidFill>
                <a:latin typeface="Arial"/>
              </a:rPr>
              <a:t>1</a:t>
            </a:r>
            <a:r>
              <a:rPr b="0" lang="zh-CN" sz="2000" spc="-1" strike="noStrike">
                <a:solidFill>
                  <a:srgbClr val="000000"/>
                </a:solidFill>
                <a:latin typeface="Arial"/>
              </a:rPr>
              <a:t>岁，至</a:t>
            </a:r>
            <a:r>
              <a:rPr b="0" lang="en-US" sz="2000" spc="-1" strike="noStrike">
                <a:solidFill>
                  <a:srgbClr val="000000"/>
                </a:solidFill>
                <a:latin typeface="Arial"/>
              </a:rPr>
              <a:t>84000</a:t>
            </a:r>
            <a:r>
              <a:rPr b="0" lang="zh-CN" sz="2000" spc="-1" strike="noStrike">
                <a:solidFill>
                  <a:srgbClr val="000000"/>
                </a:solidFill>
                <a:latin typeface="Arial"/>
              </a:rPr>
              <a:t>岁为一个增劫；再又从</a:t>
            </a:r>
            <a:r>
              <a:rPr b="0" lang="en-US" sz="2000" spc="-1" strike="noStrike">
                <a:solidFill>
                  <a:srgbClr val="000000"/>
                </a:solidFill>
                <a:latin typeface="Arial"/>
              </a:rPr>
              <a:t>84000</a:t>
            </a:r>
            <a:r>
              <a:rPr b="0" lang="zh-CN" sz="2000" spc="-1" strike="noStrike">
                <a:solidFill>
                  <a:srgbClr val="000000"/>
                </a:solidFill>
                <a:latin typeface="Arial"/>
              </a:rPr>
              <a:t>岁起，每过</a:t>
            </a:r>
            <a:r>
              <a:rPr b="0" lang="en-US" sz="2000" spc="-1" strike="noStrike">
                <a:solidFill>
                  <a:srgbClr val="000000"/>
                </a:solidFill>
                <a:latin typeface="Arial"/>
              </a:rPr>
              <a:t>100</a:t>
            </a:r>
            <a:r>
              <a:rPr b="0" lang="zh-CN" sz="2000" spc="-1" strike="noStrike">
                <a:solidFill>
                  <a:srgbClr val="000000"/>
                </a:solidFill>
                <a:latin typeface="Arial"/>
              </a:rPr>
              <a:t>年减</a:t>
            </a:r>
            <a:r>
              <a:rPr b="0" lang="en-US" sz="2000" spc="-1" strike="noStrike">
                <a:solidFill>
                  <a:srgbClr val="000000"/>
                </a:solidFill>
                <a:latin typeface="Arial"/>
              </a:rPr>
              <a:t>1</a:t>
            </a:r>
            <a:r>
              <a:rPr b="0" lang="zh-CN" sz="2000" spc="-1" strike="noStrike">
                <a:solidFill>
                  <a:srgbClr val="000000"/>
                </a:solidFill>
                <a:latin typeface="Arial"/>
              </a:rPr>
              <a:t>岁，至</a:t>
            </a:r>
            <a:r>
              <a:rPr b="0" lang="en-US" sz="2000" spc="-1" strike="noStrike">
                <a:solidFill>
                  <a:srgbClr val="000000"/>
                </a:solidFill>
                <a:latin typeface="Arial"/>
              </a:rPr>
              <a:t>10</a:t>
            </a:r>
            <a:r>
              <a:rPr b="0" lang="zh-CN" sz="2000" spc="-1" strike="noStrike">
                <a:solidFill>
                  <a:srgbClr val="000000"/>
                </a:solidFill>
                <a:latin typeface="Arial"/>
              </a:rPr>
              <a:t>岁为止为一个减劫。这样一增一减，共计</a:t>
            </a:r>
            <a:r>
              <a:rPr b="0" lang="en-US" sz="2000" spc="-1" strike="noStrike">
                <a:solidFill>
                  <a:srgbClr val="000000"/>
                </a:solidFill>
                <a:latin typeface="Arial"/>
              </a:rPr>
              <a:t>16798000</a:t>
            </a:r>
            <a:r>
              <a:rPr b="0" lang="zh-CN" sz="2000" spc="-1" strike="noStrike">
                <a:solidFill>
                  <a:srgbClr val="000000"/>
                </a:solidFill>
                <a:latin typeface="Arial"/>
              </a:rPr>
              <a:t>（即</a:t>
            </a:r>
            <a:r>
              <a:rPr b="0" lang="en-US" sz="2000" spc="-1" strike="noStrike">
                <a:solidFill>
                  <a:srgbClr val="000000"/>
                </a:solidFill>
                <a:latin typeface="Arial"/>
              </a:rPr>
              <a:t>(84000-10)*100*2</a:t>
            </a:r>
            <a:r>
              <a:rPr b="0" lang="zh-CN" sz="2000" spc="-1" strike="noStrike">
                <a:solidFill>
                  <a:srgbClr val="000000"/>
                </a:solidFill>
                <a:latin typeface="Arial"/>
              </a:rPr>
              <a:t>）年为一个小劫。</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由此可见，一般情况下，人寿最高是</a:t>
            </a:r>
            <a:r>
              <a:rPr b="0" lang="en-US" sz="2000" spc="-1" strike="noStrike">
                <a:solidFill>
                  <a:srgbClr val="000000"/>
                </a:solidFill>
                <a:latin typeface="Arial"/>
              </a:rPr>
              <a:t>84000</a:t>
            </a:r>
            <a:r>
              <a:rPr b="0" lang="zh-CN" sz="2000" spc="-1" strike="noStrike">
                <a:solidFill>
                  <a:srgbClr val="000000"/>
                </a:solidFill>
                <a:latin typeface="Arial"/>
              </a:rPr>
              <a:t>岁，最低是</a:t>
            </a:r>
            <a:r>
              <a:rPr b="0" lang="en-US" sz="2000" spc="-1" strike="noStrike">
                <a:solidFill>
                  <a:srgbClr val="000000"/>
                </a:solidFill>
                <a:latin typeface="Arial"/>
              </a:rPr>
              <a:t>10</a:t>
            </a:r>
            <a:r>
              <a:rPr b="0" lang="zh-CN" sz="2000" spc="-1" strike="noStrike">
                <a:solidFill>
                  <a:srgbClr val="000000"/>
                </a:solidFill>
                <a:latin typeface="Arial"/>
              </a:rPr>
              <a:t>岁。在增劫的人身高越来高，道德水平越来越好，寿命越来越长，减劫则正好相反。</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二十个小劫为一个中劫（</a:t>
            </a:r>
            <a:r>
              <a:rPr b="0" lang="en-US" sz="2000" spc="-1" strike="noStrike">
                <a:solidFill>
                  <a:srgbClr val="000000"/>
                </a:solidFill>
                <a:latin typeface="Arial"/>
              </a:rPr>
              <a:t>335960000</a:t>
            </a:r>
            <a:r>
              <a:rPr b="0" lang="zh-CN" sz="2000" spc="-1" strike="noStrike">
                <a:solidFill>
                  <a:srgbClr val="000000"/>
                </a:solidFill>
                <a:latin typeface="Arial"/>
              </a:rPr>
              <a:t>年，即</a:t>
            </a:r>
            <a:r>
              <a:rPr b="0" lang="en-US" sz="2000" spc="-1" strike="noStrike">
                <a:solidFill>
                  <a:srgbClr val="000000"/>
                </a:solidFill>
                <a:latin typeface="Arial"/>
              </a:rPr>
              <a:t>16798000*20</a:t>
            </a:r>
            <a:r>
              <a:rPr b="0" lang="zh-CN" sz="2000" spc="-1" strike="noStrike">
                <a:solidFill>
                  <a:srgbClr val="000000"/>
                </a:solidFill>
                <a:latin typeface="Arial"/>
              </a:rPr>
              <a:t>）。成（形成）、住（保持）、坏（坏掉）、空（成空）四个中劫为一个大劫（</a:t>
            </a:r>
            <a:r>
              <a:rPr b="0" lang="en-US" sz="2000" spc="-1" strike="noStrike">
                <a:solidFill>
                  <a:srgbClr val="000000"/>
                </a:solidFill>
                <a:latin typeface="Arial"/>
              </a:rPr>
              <a:t>1343840000</a:t>
            </a:r>
            <a:r>
              <a:rPr b="0" lang="zh-CN" sz="2000" spc="-1" strike="noStrike">
                <a:solidFill>
                  <a:srgbClr val="000000"/>
                </a:solidFill>
                <a:latin typeface="Arial"/>
              </a:rPr>
              <a:t>年，即</a:t>
            </a:r>
            <a:r>
              <a:rPr b="0" lang="en-US" sz="2000" spc="-1" strike="noStrike">
                <a:solidFill>
                  <a:srgbClr val="000000"/>
                </a:solidFill>
                <a:latin typeface="Arial"/>
              </a:rPr>
              <a:t>335960000*4</a:t>
            </a:r>
            <a:r>
              <a:rPr b="0" lang="zh-CN" sz="2000" spc="-1" strike="noStrike">
                <a:solidFill>
                  <a:srgbClr val="000000"/>
                </a:solidFill>
                <a:latin typeface="Arial"/>
              </a:rPr>
              <a:t>）。住劫才有稳定星球。</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成佛一般需要三大阿僧祗劫（</a:t>
            </a:r>
            <a:r>
              <a:rPr b="0" lang="en-US" sz="2000" spc="-1" strike="noStrike">
                <a:solidFill>
                  <a:srgbClr val="000000"/>
                </a:solidFill>
                <a:latin typeface="Arial"/>
              </a:rPr>
              <a:t>1</a:t>
            </a:r>
            <a:r>
              <a:rPr b="0" lang="zh-CN" sz="2000" spc="-1" strike="noStrike">
                <a:solidFill>
                  <a:srgbClr val="000000"/>
                </a:solidFill>
                <a:latin typeface="Arial"/>
              </a:rPr>
              <a:t>大劫</a:t>
            </a:r>
            <a:r>
              <a:rPr b="0" lang="en-US" sz="2000" spc="-1" strike="noStrike">
                <a:solidFill>
                  <a:srgbClr val="000000"/>
                </a:solidFill>
                <a:latin typeface="Arial"/>
              </a:rPr>
              <a:t>*3</a:t>
            </a:r>
            <a:r>
              <a:rPr b="0" lang="zh-CN" sz="2000" spc="-1" strike="noStrike">
                <a:solidFill>
                  <a:srgbClr val="000000"/>
                </a:solidFill>
                <a:latin typeface="Arial"/>
              </a:rPr>
              <a:t>阿僧祗，即</a:t>
            </a:r>
            <a:r>
              <a:rPr b="0" lang="en-US" sz="2000" spc="-1" strike="noStrike">
                <a:solidFill>
                  <a:srgbClr val="000000"/>
                </a:solidFill>
                <a:latin typeface="Arial"/>
              </a:rPr>
              <a:t>1343840000</a:t>
            </a:r>
            <a:r>
              <a:rPr b="0" lang="zh-CN" sz="2000" spc="-1" strike="noStrike">
                <a:solidFill>
                  <a:srgbClr val="000000"/>
                </a:solidFill>
                <a:latin typeface="Arial"/>
              </a:rPr>
              <a:t>年</a:t>
            </a:r>
            <a:r>
              <a:rPr b="0" lang="en-US" sz="2000" spc="-1" strike="noStrike">
                <a:solidFill>
                  <a:srgbClr val="000000"/>
                </a:solidFill>
                <a:latin typeface="Arial"/>
              </a:rPr>
              <a:t>*3*(10</a:t>
            </a:r>
            <a:r>
              <a:rPr b="0" lang="zh-CN" sz="2000" spc="-1" strike="noStrike">
                <a:solidFill>
                  <a:srgbClr val="000000"/>
                </a:solidFill>
                <a:latin typeface="Arial"/>
              </a:rPr>
              <a:t>的</a:t>
            </a:r>
            <a:r>
              <a:rPr b="0" lang="en-US" sz="2000" spc="-1" strike="noStrike">
                <a:solidFill>
                  <a:srgbClr val="000000"/>
                </a:solidFill>
                <a:latin typeface="Arial"/>
              </a:rPr>
              <a:t>47</a:t>
            </a:r>
            <a:r>
              <a:rPr b="0" lang="zh-CN" sz="2000" spc="-1" strike="noStrike">
                <a:solidFill>
                  <a:srgbClr val="000000"/>
                </a:solidFill>
                <a:latin typeface="Arial"/>
              </a:rPr>
              <a:t>次方</a:t>
            </a:r>
            <a:r>
              <a:rPr b="0" lang="en-US" sz="2000" spc="-1" strike="noStrike">
                <a:solidFill>
                  <a:srgbClr val="000000"/>
                </a:solidFill>
                <a:latin typeface="Arial"/>
              </a:rPr>
              <a:t>)=403152*(10</a:t>
            </a:r>
            <a:r>
              <a:rPr b="0" lang="zh-CN" sz="2000" spc="-1" strike="noStrike">
                <a:solidFill>
                  <a:srgbClr val="000000"/>
                </a:solidFill>
                <a:latin typeface="Arial"/>
              </a:rPr>
              <a:t>的</a:t>
            </a:r>
            <a:r>
              <a:rPr b="0" lang="en-US" sz="2000" spc="-1" strike="noStrike">
                <a:solidFill>
                  <a:srgbClr val="000000"/>
                </a:solidFill>
                <a:latin typeface="Arial"/>
              </a:rPr>
              <a:t>51</a:t>
            </a:r>
            <a:r>
              <a:rPr b="0" lang="zh-CN" sz="2000" spc="-1" strike="noStrike">
                <a:solidFill>
                  <a:srgbClr val="000000"/>
                </a:solidFill>
                <a:latin typeface="Arial"/>
              </a:rPr>
              <a:t>次方</a:t>
            </a:r>
            <a:r>
              <a:rPr b="0" lang="en-US" sz="2000" spc="-1" strike="noStrike">
                <a:solidFill>
                  <a:srgbClr val="000000"/>
                </a:solidFill>
                <a:latin typeface="Arial"/>
              </a:rPr>
              <a:t>)</a:t>
            </a:r>
            <a:r>
              <a:rPr b="0" lang="zh-CN" sz="2000" spc="-1" strike="noStrike">
                <a:solidFill>
                  <a:srgbClr val="000000"/>
                </a:solidFill>
                <a:latin typeface="Arial"/>
              </a:rPr>
              <a:t>年）。</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星球宇宙的形成和坏灭：成、住、坏、空四中劫！</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乘佛法</a:t>
            </a:r>
            <a:endParaRPr b="0" lang="en-US" sz="4400" spc="-1" strike="noStrike">
              <a:solidFill>
                <a:srgbClr val="000000"/>
              </a:solidFill>
              <a:latin typeface="Arial"/>
            </a:endParaRPr>
          </a:p>
        </p:txBody>
      </p:sp>
      <p:sp>
        <p:nvSpPr>
          <p:cNvPr id="4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小乘。即声闻和缘觉。声闻就是从声音听闻佛说法，最高目标是证阿罗汉。缘觉就是觉悟缘，另有独觉，就是独自觉悟的意思，修做事完美可修成。两者的最高目标是证缘觉辟支佛和独觉辟支佛。小乘注重离苦，自我解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大乘。即菩萨乘。大乘讲当菩萨利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密乘。佛秘密说的佛法，又称金刚乘。金刚乘主要讲反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2T18:24:20Z</dcterms:created>
  <dc:creator>微软用户</dc:creator>
  <dc:description/>
  <dc:language>en-US</dc:language>
  <cp:lastModifiedBy>huzheng</cp:lastModifiedBy>
  <dcterms:modified xsi:type="dcterms:W3CDTF">2025-11-28T16:56:44Z</dcterms:modified>
  <cp:revision>42</cp:revision>
  <dc:subject/>
  <dc:title>佛法常识讲座</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C3A0B14B0DEA5A0ECC632969B0A8160E_42</vt:lpwstr>
  </property>
  <property fmtid="{D5CDD505-2E9C-101B-9397-08002B2CF9AE}" pid="3" name="KSOProductBuildVer">
    <vt:lpwstr>2052-12.1.2.23578</vt:lpwstr>
  </property>
</Properties>
</file>